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south%20park%20-%20take%20our%20seats.wav" ContentType="audio/x-wav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881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9F5-1ACE-4E1B-9A66-3B318827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284-B8C1-419B-986C-6AD248D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E00-E906-414A-A63C-387A6EEE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0D1-AB0D-4AD7-82E4-E3126CB5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E34-9631-472C-B965-2A5EBEF3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3A2-C6B8-4228-9905-B80766A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24B-A9B6-49E4-8C22-436FD81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B44-0B57-4C1C-8B65-B36FF719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7E9-6F0A-4D1B-9F9E-4289373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19F-628B-4124-BF3B-B642786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3E9-6AF4-45BB-AD16-8A35692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E6E-B070-47BE-9E3E-025EF0C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3B26-A68F-476D-A651-F22E47CC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th%20park%20-%20take%20our%20seat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ifecycle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569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ss and Fern Life Cyc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th%20park%20-%20take%20our%20sea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-304920" y="457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-304920" y="75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-304920" y="121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304920" y="17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Haploid spores land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469E-006 C 0.01146 0.00161 0.02274 0.00393 0.03368 0.00925 C 0.04306 0.01387 0.05208 0.02173 0.06163 0.02428 C 0.06649 0.03052 0.07049 0.03052 0.07604 0.03561 C 0.07847 0.03792 0.08056 0.0407 0.08299 0.04301 C 0.0842 0.0444 0.08576 0.04555 0.08733 0.04671 C 0.09167 0.05573 0.09514 0.06521 0.09844 0.07493 C 0.10017 0.08001 0.10417 0.08996 0.10417 0.08996 C 0.10469 0.09736 0.10382 0.10522 0.10556 0.11239 C 0.11111 0.13459 0.12639 0.15101 0.13629 0.16882 C 0.14427 0.18316 0.14688 0.19495 0.15764 0.20628 C 0.16163 0.21739 0.16684 0.22571 0.1717 0.23635 C 0.17309 0.24398 0.17483 0.25115 0.17587 0.25878 C 0.17691 0.29949 0.17743 0.33996 0.17882 0.38066 C 0.17986 0.41443 0.17795 0.39338 0.18299 0.41073 C 0.18403 0.41443 0.18576 0.42206 0.18576 0.42206 C 0.18524 0.44588 0.18524 0.46947 0.18438 0.49329 C 0.1842 0.50046 0.18021 0.51387 0.18021 0.51387 C 0.175 0.55434 0.18004 0.55874 0.19566 0.59851 C 0.19792 0.60453 0.19965 0.611 0.20139 0.61725 C 0.20243 0.62095 0.20625 0.62557 0.20417 0.62835 C 0.19931 0.63482 0.2 0.61332 0.2 0.61332 E">
                                      <p:cBhvr>
                                        <p:cTn id="65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4884E-006 C 0.0165 0.00209 0.03038 0.00995 0.04653 0.01504 C 0.07778 0.02521 0.07674 0.02406 0.11563 0.03377 C 0.12847 0.03701 0.14202 0.03678 0.15504 0.03932 C 0.16354 0.04094 0.18038 0.04672 0.18038 0.04672 C 0.19167 0.05458 0.20365 0.05643 0.21563 0.06175 C 0.22275 0.06499 0.22952 0.06962 0.23663 0.07309 C 0.24358 0.0821 0.25191 0.08696 0.2592 0.09552 C 0.27709 0.1161 0.29271 0.14015 0.3099 0.1612 C 0.31268 0.1649 0.31684 0.16698 0.31979 0.17068 C 0.33021 0.18363 0.33906 0.19843 0.34931 0.21185 C 0.36233 0.22919 0.36511 0.22572 0.37761 0.23821 C 0.39948 0.26018 0.42014 0.28053 0.44514 0.29626 C 0.45868 0.30481 0.47014 0.31592 0.48438 0.32077 C 0.50382 0.3358 0.48021 0.31615 0.49705 0.33395 C 0.52084 0.35847 0.53351 0.37188 0.55347 0.40333 C 0.5599 0.41305 0.5665 0.42253 0.57309 0.43155 C 0.57587 0.43502 0.57934 0.4371 0.58177 0.4408 C 0.5934 0.45953 0.60087 0.48035 0.61424 0.49677 C 0.62101 0.5155 0.61268 0.49492 0.62118 0.51018 C 0.62847 0.52359 0.63334 0.53955 0.64219 0.55158 C 0.65139 0.58719 0.63768 0.53562 0.6507 0.57401 C 0.65174 0.57702 0.65122 0.58049 0.65226 0.58349 C 0.65417 0.58858 0.65781 0.59182 0.66059 0.59644 C 0.66215 0.60292 0.66354 0.60778 0.66632 0.61309 C 0.66806 0.62234 0.67188 0.63021 0.67622 0.63784 C 0.67795 0.64108 0.68455 0.64432 0.68455 0.64709 E">
                                      <p:cBhvr>
                                        <p:cTn id="66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7946E-006 C 0.01823 0.00624 0.03629 0.01503 0.05486 0.01873 C 0.10243 0.02844 0.15035 0.02682 0.19844 0.02798 C 0.21701 0.03006 0.23281 0.03445 0.2507 0.04116 C 0.26181 0.05018 0.27431 0.05642 0.28438 0.06752 C 0.29306 0.07701 0.30035 0.0888 0.30833 0.09944 C 0.32413 0.12048 0.34358 0.13621 0.36181 0.15379 C 0.38681 0.17807 0.41424 0.19634 0.43507 0.22687 C 0.44288 0.23843 0.45382 0.24537 0.45764 0.26063 C 0.45642 0.28214 0.45417 0.29532 0.44913 0.31521 C 0.44618 0.34643 0.44514 0.37627 0.45208 0.40702 C 0.45642 0.45328 0.46181 0.49976 0.46754 0.54579 C 0.46667 0.57654 0.4717 0.5969 0.45903 0.6191 C 0.45382 0.63968 0.44306 0.64962 0.43229 0.66396 C 0.43021 0.66674 0.42882 0.67044 0.42674 0.67344 C 0.42361 0.67807 0.41684 0.68663 0.41684 0.68663 C 0.41545 0.69842 0.41823 0.69773 0.41406 0.69773 E">
                                      <p:cBhvr>
                                        <p:cTn id="66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8575E-006 C 0.01632 0.00531 0.0316 0.01503 0.04792 0.02081 C 0.06736 0.02798 0.08767 0.03307 0.10712 0.04139 C 0.11892 0.04648 0.13021 0.05203 0.14236 0.05642 C 0.1651 0.06452 0.1684 0.06128 0.18871 0.07146 C 0.19601 0.07516 0.2026 0.08094 0.2099 0.08441 C 0.2158 0.08718 0.2224 0.08765 0.2283 0.09019 C 0.25104 0.10037 0.27309 0.11332 0.29583 0.12395 C 0.32361 0.13714 0.3533 0.1487 0.38038 0.16512 C 0.40538 0.18038 0.43333 0.20143 0.45625 0.22155 C 0.46406 0.22826 0.47292 0.23288 0.47882 0.24213 C 0.49375 0.26526 0.50868 0.28469 0.5283 0.30203 C 0.53802 0.31082 0.54705 0.32169 0.55764 0.3284 C 0.56302 0.33163 0.56858 0.33371 0.57326 0.33788 C 0.58698 0.3499 0.60017 0.36285 0.6125 0.37719 C 0.61632 0.38159 0.61979 0.38644 0.62396 0.39037 C 0.64687 0.41373 0.67205 0.43362 0.69427 0.4579 C 0.69809 0.46184 0.70052 0.46739 0.70434 0.47109 C 0.71667 0.48334 0.73246 0.48959 0.74514 0.50092 C 0.75399 0.50901 0.76198 0.5185 0.77049 0.52728 C 0.77396 0.53075 0.77604 0.5363 0.77899 0.54047 C 0.79792 0.56706 0.81424 0.5925 0.82969 0.62303 C 0.84392 0.65124 0.85156 0.68408 0.86476 0.71299 C 0.87569 0.73681 0.88924 0.75786 0.90434 0.77682 C 0.90486 0.77497 0.90573 0.77127 0.90573 0.77127 E">
                                      <p:cBhvr>
                                        <p:cTn id="66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From the haploid spores, gametophyte grows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0" y="8780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58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gametophytes are called a prothal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Straight Arrow Connector 7"/>
          <p:cNvCxnSpPr/>
          <p:nvPr/>
        </p:nvCxnSpPr>
        <p:spPr>
          <a:xfrm flipH="1">
            <a:off x="5714640" y="4113720"/>
            <a:ext cx="1448640" cy="610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4"/>
          <p:cNvSpPr/>
          <p:nvPr/>
        </p:nvSpPr>
        <p:spPr>
          <a:xfrm>
            <a:off x="-762120" y="1905120"/>
            <a:ext cx="10591920" cy="4952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5" descr=""/>
          <p:cNvPicPr/>
          <p:nvPr/>
        </p:nvPicPr>
        <p:blipFill>
          <a:blip r:embed="rId1"/>
          <a:stretch/>
        </p:blipFill>
        <p:spPr>
          <a:xfrm>
            <a:off x="2057400" y="2394000"/>
            <a:ext cx="5562720" cy="4464000"/>
          </a:xfrm>
          <a:prstGeom prst="rect">
            <a:avLst/>
          </a:prstGeom>
          <a:ln w="0">
            <a:noFill/>
          </a:ln>
        </p:spPr>
      </p:pic>
      <p:sp>
        <p:nvSpPr>
          <p:cNvPr id="222" name="Oval 2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3733920" y="5181480"/>
            <a:ext cx="15228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erm swim through water from the male parts (antheridium) to the female parts (archegonia)…zygote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0" y="92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ba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3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3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9.01018E-006 C -0.01076 -0.01434 -0.01631 -0.02683 -0.02031 -0.04649 C -0.01979 -0.0562 -0.01996 -0.06592 -0.01875 -0.0754 C -0.0184 -0.07771 -0.01614 -0.07887 -0.01597 -0.08118 C -0.01527 -0.09644 -0.01822 -0.11124 -0.0217 -0.12558 C -0.02118 -0.13645 -0.02118 -0.14755 -0.02031 -0.15842 C -0.01979 -0.16513 -0.01302 -0.17577 -0.01302 -0.17577 C -0.01197 -0.18016 -0.00729 -0.19242 -0.00729 -0.19519 E">
                                      <p:cBhvr>
                                        <p:cTn id="78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89824E-007 C 0.00052 -0.00185 0.00191 -0.00393 0.00139 -0.00578 C 0.0007 -0.00786 -0.00156 -0.0081 -0.00295 -0.00948 C -0.01562 -0.02336 0.00052 -0.0081 -0.01163 -0.0192 C -0.01406 -0.0259 -0.01701 -0.03169 -0.01875 -0.03862 C -0.01875 -0.03932 -0.01771 -0.05435 -0.01597 -0.05782 C -0.01024 -0.06915 0.00122 -0.07285 0.01024 -0.07724 C 0.01493 -0.08349 0.02257 -0.08788 0.02899 -0.09066 C 0.03021 -0.09205 0.03715 -0.09922 0.03924 -0.10037 C 0.04201 -0.10199 0.04792 -0.10407 0.04792 -0.10407 C 0.05781 -0.11725 0.05451 -0.11101 0.05938 -0.12165 C 0.05868 -0.13206 0.06042 -0.14339 0.0566 -0.15241 C 0.05347 -0.15958 0.04636 -0.1686 0.04201 -0.17553 C 0.03733 -0.18317 0.03594 -0.19126 0.03038 -0.19866 C 0.02917 -0.20398 0.02778 -0.20814 0.02465 -0.2123 E">
                                      <p:cBhvr>
                                        <p:cTn id="79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61425E-006 C -0.0052 -0.01017 -0.01562 -0.01919 -0.02465 -0.02312 C -0.03125 -0.0289 -0.03663 -0.03329 -0.04201 -0.04046 C -0.03663 -0.07145 0.02587 -0.05596 0.02743 -0.05596 C 0.04063 -0.05873 0.054 -0.0622 0.06667 -0.06752 C 0.075 -0.07492 0.08334 -0.07677 0.09271 -0.08094 C 0.09966 -0.08394 0.10625 -0.0888 0.11303 -0.09273 C 0.12032 -0.09689 0.1198 -0.09736 0.12743 -0.10429 C 0.12882 -0.10545 0.13178 -0.10799 0.13178 -0.10799 C 0.13525 -0.12534 0.14219 -0.15008 0.129 -0.16211 C 0.12084 -0.16142 0.1125 -0.16142 0.10434 -0.16026 C 0.09566 -0.1591 0.08803 -0.14962 0.07969 -0.14662 C 0.07518 -0.13783 0.05799 -0.12534 0.04914 -0.12164 C 0.04375 -0.11678 0.03803 -0.11447 0.03178 -0.11193 C 0.01007 -0.11354 -0.01163 -0.11771 -0.03333 -0.11771 E">
                                      <p:cBhvr>
                                        <p:cTn id="80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Diploid sporophyte grows from the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362320" y="24494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60958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gametophytes are called a prothal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Straight Arrow Connector 10"/>
          <p:cNvCxnSpPr/>
          <p:nvPr/>
        </p:nvCxnSpPr>
        <p:spPr>
          <a:xfrm flipH="1">
            <a:off x="5714640" y="4113720"/>
            <a:ext cx="1448640" cy="610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Left Brace 9"/>
          <p:cNvSpPr/>
          <p:nvPr/>
        </p:nvSpPr>
        <p:spPr>
          <a:xfrm>
            <a:off x="3657600" y="762120"/>
            <a:ext cx="609480" cy="38862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886200"/>
              <a:gd name="textAreaBottom" fmla="*/ 3870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Fiddle head uncurls….fronds open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2838600" cy="55627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0" y="4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) Cycle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 Haploid spores created and rel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6483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7242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876920" y="1066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648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81952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ddle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13"/>
          <p:cNvSpPr/>
          <p:nvPr/>
        </p:nvSpPr>
        <p:spPr>
          <a:xfrm flipH="1">
            <a:off x="3962520" y="121932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335268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-0.00439 0.02327 -0.02129 0.03681 -0.02939 C 0.04028 -0.03148 0.04341 -0.03402 0.04705 -0.03541 C 0.05139 -0.03726 0.06025 -0.03935 0.06025 -0.03935 C 0.11268 -0.03541 0.07327 -0.04004 0.09549 -0.03541 C 0.10243 -0.03402 0.11615 -0.03148 0.11615 -0.03148 C 0.12691 -0.03217 0.13768 -0.0324 0.14844 -0.03333 C 0.16198 -0.03472 0.175 -0.04351 0.1882 -0.04722 C 0.23368 -0.07754 0.28108 -0.1 0.33091 -0.11388 C 0.3316 -0.11388 0.36025 -0.11319 0.3691 -0.10995 C 0.38386 -0.10463 0.37032 -0.10833 0.38091 -0.10208 C 0.38264 -0.10115 0.39098 -0.09884 0.39271 -0.09814 C 0.40695 -0.09259 0.42032 -0.08657 0.43525 -0.08449 C 0.45226 -0.07662 0.47084 -0.08194 0.4882 -0.08634 C 0.49462 -0.08981 0.5007 -0.09189 0.50729 -0.09421 C 0.52309 -0.10972 0.54098 -0.10995 0.56025 -0.10995 E">
                                      <p:cBhvr>
                                        <p:cTn id="87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71 -0.00139 0.01979 -0.00046 0.03229 -0.00579 C 0.04288 -0.01991 0.05486 -0.03171 0.06475 -0.04699 C 0.07153 -0.05741 0.0743 -0.07106 0.07951 -0.08241 C 0.08107 -0.09074 0.08316 -0.09676 0.0868 -0.10394 C 0.08854 -0.11412 0.09097 -0.11759 0.09566 -0.12546 C 0.09913 -0.13125 0.10278 -0.13866 0.1059 -0.14514 C 0.10833 -0.15023 0.11528 -0.15069 0.11909 -0.15301 C 0.13159 -0.16042 0.14548 -0.16435 0.15885 -0.16852 C 0.17048 -0.17616 0.18316 -0.18704 0.19566 -0.19213 C 0.19705 -0.19352 0.19843 -0.19514 0.2 -0.19606 C 0.20278 -0.19769 0.20607 -0.19792 0.20885 -0.2 C 0.21684 -0.20602 0.225 -0.21597 0.23229 -0.22361 C 0.23403 -0.22546 0.23646 -0.22569 0.23819 -0.22755 C 0.24757 -0.23681 0.25451 -0.24606 0.26614 -0.25093 C 0.27604 -0.25023 0.28593 -0.25046 0.29566 -0.24907 C 0.3151 -0.24606 0.33246 -0.22824 0.35156 -0.22361 C 0.3533 -0.22199 0.36389 -0.21273 0.36614 -0.20972 C 0.37396 -0.19931 0.38003 -0.1831 0.39114 -0.17847 C 0.40139 -0.16782 0.41232 -0.1625 0.425 -0.1588 C 0.43212 -0.15255 0.44028 -0.15116 0.44861 -0.14907 C 0.45451 -0.14977 0.46041 -0.14977 0.46614 -0.15093 C 0.46927 -0.15162 0.475 -0.15486 0.475 -0.15486 C 0.49757 -0.17801 0.52465 -0.19028 0.55295 -0.19028 E">
                                      <p:cBhvr>
                                        <p:cTn id="87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639 0.01088 0.05 -0.0037 0.07361 -0.01574 C 0.0776 -0.01782 0.08004 -0.02338 0.08385 -0.02546 C 0.10243 -0.03541 0.09427 -0.02916 0.10885 -0.04305 C 0.11094 -0.0449 0.11389 -0.04421 0.11632 -0.04514 C 0.12899 -0.05023 0.14167 -0.05254 0.15451 -0.05694 C 0.16962 -0.05602 0.17986 -0.05787 0.19271 -0.05301 C 0.20764 -0.04722 0.21597 -0.03773 0.22656 -0.02361 C 0.22865 -0.02083 0.2316 -0.0199 0.23385 -0.01759 C 0.23924 -0.0125 0.24306 -0.00486 0.24861 0 C 0.25226 0.00324 0.25677 0.00463 0.26042 0.00787 C 0.26476 0.01644 0.27083 0.02246 0.27656 0.0294 C 0.27969 0.03311 0.28542 0.04121 0.28542 0.04121 C 0.28976 0.05903 0.2974 0.07523 0.3059 0.09028 C 0.3092 0.0963 0.31354 0.09607 0.31771 0.1 C 0.32622 0.10811 0.31771 0.10371 0.32656 0.10973 C 0.3401 0.11898 0.35486 0.12338 0.36927 0.1294 C 0.37604 0.13542 0.3816 0.14306 0.38837 0.14908 C 0.39288 0.15787 0.40035 0.16389 0.40451 0.17246 C 0.40677 0.17732 0.40816 0.18079 0.41181 0.18426 C 0.41476 0.18704 0.41875 0.18866 0.42205 0.19028 C 0.4375 0.20533 0.45851 0.21158 0.47656 0.21968 C 0.48629 0.22408 0.49392 0.23357 0.50451 0.23727 C 0.51024 0.24491 0.51788 0.24908 0.525 0.25486 C 0.52795 0.25741 0.53385 0.26273 0.53385 0.26273 E">
                                      <p:cBhvr>
                                        <p:cTn id="87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64 -0.01504 0.03386 -0.01597 0.04705 -0.01967 C 0.10365 -0.01805 0.11702 -0.01597 0.16771 -0.01967 C 0.18316 -0.02083 0.19809 -0.02916 0.21181 -0.03726 C 0.22396 -0.04444 0.23855 -0.04814 0.25157 -0.05092 C 0.26129 -0.05023 0.27119 -0.05023 0.28091 -0.04907 C 0.2882 -0.04838 0.29428 -0.04305 0.30157 -0.0412 C 0.31198 -0.03194 0.30695 -0.03449 0.31615 -0.03125 C 0.32292 -0.02523 0.33021 -0.02222 0.33681 -0.01574 C 0.34028 -0.00856 0.34254 -0.00208 0.34705 0.00394 C 0.34983 0.01783 0.35452 0.03125 0.35747 0.04514 C 0.35955 0.05487 0.36059 0.06412 0.36476 0.07269 C 0.36858 0.08866 0.37796 0.10209 0.38681 0.11366 C 0.38924 0.11667 0.39306 0.1169 0.39566 0.11968 C 0.39723 0.1213 0.39827 0.12408 0.4 0.12547 C 0.40539 0.1294 0.41337 0.13195 0.4191 0.13542 C 0.42119 0.13658 0.42309 0.13797 0.425 0.13936 C 0.42657 0.14051 0.42796 0.14213 0.42952 0.14329 C 0.43195 0.14491 0.4375 0.14607 0.43976 0.147 C 0.44775 0.15 0.45521 0.15533 0.4632 0.1588 C 0.46476 0.16019 0.4665 0.16112 0.46771 0.16274 C 0.46893 0.16436 0.46928 0.16713 0.47066 0.16875 C 0.47761 0.17709 0.47813 0.17616 0.48542 0.17848 C 0.48872 0.18542 0.49132 0.1875 0.49705 0.19028 C 0.50018 0.19329 0.5066 0.197 0.50886 0.2 E">
                                      <p:cBhvr>
                                        <p:cTn id="877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-304920" y="457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-304920" y="75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-304920" y="121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-304920" y="17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Haploid spores land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469E-006 C 0.01146 0.00161 0.02274 0.00393 0.03368 0.00925 C 0.04306 0.01387 0.05208 0.02173 0.06163 0.02428 C 0.06649 0.03052 0.07049 0.03052 0.07604 0.03561 C 0.07847 0.03792 0.08056 0.0407 0.08299 0.04301 C 0.0842 0.0444 0.08576 0.04555 0.08733 0.04671 C 0.09167 0.05573 0.09514 0.06521 0.09844 0.07493 C 0.10017 0.08001 0.10417 0.08996 0.10417 0.08996 C 0.10469 0.09736 0.10382 0.10522 0.10556 0.11239 C 0.11111 0.13459 0.12639 0.15101 0.13629 0.16882 C 0.14427 0.18316 0.14688 0.19495 0.15764 0.20628 C 0.16163 0.21739 0.16684 0.22571 0.1717 0.23635 C 0.17309 0.24398 0.17483 0.25115 0.17587 0.25878 C 0.17691 0.29949 0.17743 0.33996 0.17882 0.38066 C 0.17986 0.41443 0.17795 0.39338 0.18299 0.41073 C 0.18403 0.41443 0.18576 0.42206 0.18576 0.42206 C 0.18524 0.44588 0.18524 0.46947 0.18438 0.49329 C 0.1842 0.50046 0.18021 0.51387 0.18021 0.51387 C 0.175 0.55434 0.18004 0.55874 0.19566 0.59851 C 0.19792 0.60453 0.19965 0.611 0.20139 0.61725 C 0.20243 0.62095 0.20625 0.62557 0.20417 0.62835 C 0.19931 0.63482 0.2 0.61332 0.2 0.61332 E">
                                      <p:cBhvr>
                                        <p:cTn id="883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4884E-006 C 0.0165 0.00209 0.03038 0.00995 0.04653 0.01504 C 0.07778 0.02521 0.07674 0.02406 0.11563 0.03377 C 0.12847 0.03701 0.14202 0.03678 0.15504 0.03932 C 0.16354 0.04094 0.18038 0.04672 0.18038 0.04672 C 0.19167 0.05458 0.20365 0.05643 0.21563 0.06175 C 0.22275 0.06499 0.22952 0.06962 0.23663 0.07309 C 0.24358 0.0821 0.25191 0.08696 0.2592 0.09552 C 0.27709 0.1161 0.29271 0.14015 0.3099 0.1612 C 0.31268 0.1649 0.31684 0.16698 0.31979 0.17068 C 0.33021 0.18363 0.33906 0.19843 0.34931 0.21185 C 0.36233 0.22919 0.36511 0.22572 0.37761 0.23821 C 0.39948 0.26018 0.42014 0.28053 0.44514 0.29626 C 0.45868 0.30481 0.47014 0.31592 0.48438 0.32077 C 0.50382 0.3358 0.48021 0.31615 0.49705 0.33395 C 0.52084 0.35847 0.53351 0.37188 0.55347 0.40333 C 0.5599 0.41305 0.5665 0.42253 0.57309 0.43155 C 0.57587 0.43502 0.57934 0.4371 0.58177 0.4408 C 0.5934 0.45953 0.60087 0.48035 0.61424 0.49677 C 0.62101 0.5155 0.61268 0.49492 0.62118 0.51018 C 0.62847 0.52359 0.63334 0.53955 0.64219 0.55158 C 0.65139 0.58719 0.63768 0.53562 0.6507 0.57401 C 0.65174 0.57702 0.65122 0.58049 0.65226 0.58349 C 0.65417 0.58858 0.65781 0.59182 0.66059 0.59644 C 0.66215 0.60292 0.66354 0.60778 0.66632 0.61309 C 0.66806 0.62234 0.67188 0.63021 0.67622 0.63784 C 0.67795 0.64108 0.68455 0.64432 0.68455 0.64709 E">
                                      <p:cBhvr>
                                        <p:cTn id="88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7946E-006 C 0.01823 0.00624 0.03629 0.01503 0.05486 0.01873 C 0.10243 0.02844 0.15035 0.02682 0.19844 0.02798 C 0.21701 0.03006 0.23281 0.03445 0.2507 0.04116 C 0.26181 0.05018 0.27431 0.05642 0.28438 0.06752 C 0.29306 0.07701 0.30035 0.0888 0.30833 0.09944 C 0.32413 0.12048 0.34358 0.13621 0.36181 0.15379 C 0.38681 0.17807 0.41424 0.19634 0.43507 0.22687 C 0.44288 0.23843 0.45382 0.24537 0.45764 0.26063 C 0.45642 0.28214 0.45417 0.29532 0.44913 0.31521 C 0.44618 0.34643 0.44514 0.37627 0.45208 0.40702 C 0.45642 0.45328 0.46181 0.49976 0.46754 0.54579 C 0.46667 0.57654 0.4717 0.5969 0.45903 0.6191 C 0.45382 0.63968 0.44306 0.64962 0.43229 0.66396 C 0.43021 0.66674 0.42882 0.67044 0.42674 0.67344 C 0.42361 0.67807 0.41684 0.68663 0.41684 0.68663 C 0.41545 0.69842 0.41823 0.69773 0.41406 0.69773 E">
                                      <p:cBhvr>
                                        <p:cTn id="88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8575E-006 C 0.01632 0.00531 0.0316 0.01503 0.04792 0.02081 C 0.06736 0.02798 0.08767 0.03307 0.10712 0.04139 C 0.11892 0.04648 0.13021 0.05203 0.14236 0.05642 C 0.1651 0.06452 0.1684 0.06128 0.18871 0.07146 C 0.19601 0.07516 0.2026 0.08094 0.2099 0.08441 C 0.2158 0.08718 0.2224 0.08765 0.2283 0.09019 C 0.25104 0.10037 0.27309 0.11332 0.29583 0.12395 C 0.32361 0.13714 0.3533 0.1487 0.38038 0.16512 C 0.40538 0.18038 0.43333 0.20143 0.45625 0.22155 C 0.46406 0.22826 0.47292 0.23288 0.47882 0.24213 C 0.49375 0.26526 0.50868 0.28469 0.5283 0.30203 C 0.53802 0.31082 0.54705 0.32169 0.55764 0.3284 C 0.56302 0.33163 0.56858 0.33371 0.57326 0.33788 C 0.58698 0.3499 0.60017 0.36285 0.6125 0.37719 C 0.61632 0.38159 0.61979 0.38644 0.62396 0.39037 C 0.64687 0.41373 0.67205 0.43362 0.69427 0.4579 C 0.69809 0.46184 0.70052 0.46739 0.70434 0.47109 C 0.71667 0.48334 0.73246 0.48959 0.74514 0.50092 C 0.75399 0.50901 0.76198 0.5185 0.77049 0.52728 C 0.77396 0.53075 0.77604 0.5363 0.77899 0.54047 C 0.79792 0.56706 0.81424 0.5925 0.82969 0.62303 C 0.84392 0.65124 0.85156 0.68408 0.86476 0.71299 C 0.87569 0.73681 0.88924 0.75786 0.90434 0.77682 C 0.90486 0.77497 0.90573 0.77127 0.90573 0.77127 E">
                                      <p:cBhvr>
                                        <p:cTn id="88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From the haploid spores, gametophyte (called the prothallus) grows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0" y="8780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4"/>
          <p:cNvSpPr/>
          <p:nvPr/>
        </p:nvSpPr>
        <p:spPr>
          <a:xfrm>
            <a:off x="-762120" y="1905120"/>
            <a:ext cx="10591920" cy="4952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5" descr=""/>
          <p:cNvPicPr/>
          <p:nvPr/>
        </p:nvPicPr>
        <p:blipFill>
          <a:blip r:embed="rId1"/>
          <a:stretch/>
        </p:blipFill>
        <p:spPr>
          <a:xfrm>
            <a:off x="2057400" y="2394000"/>
            <a:ext cx="5562720" cy="4464000"/>
          </a:xfrm>
          <a:prstGeom prst="rect">
            <a:avLst/>
          </a:prstGeom>
          <a:ln w="0">
            <a:noFill/>
          </a:ln>
        </p:spPr>
      </p:pic>
      <p:sp>
        <p:nvSpPr>
          <p:cNvPr id="281" name="Oval 2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3733920" y="5181480"/>
            <a:ext cx="15228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erm swim through water from the male antheridium to the female archeg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0" y="84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ba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29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1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7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1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5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3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9.01018E-006 C -0.01076 -0.01434 -0.01631 -0.02683 -0.02031 -0.04649 C -0.01979 -0.0562 -0.01996 -0.06592 -0.01875 -0.0754 C -0.0184 -0.07771 -0.01614 -0.07887 -0.01597 -0.08118 C -0.01527 -0.09644 -0.01822 -0.11124 -0.0217 -0.12558 C -0.02118 -0.13645 -0.02118 -0.14755 -0.02031 -0.15842 C -0.01979 -0.16513 -0.01302 -0.17577 -0.01302 -0.17577 C -0.01197 -0.18016 -0.00729 -0.19242 -0.00729 -0.19519 E">
                                      <p:cBhvr>
                                        <p:cTn id="100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89824E-007 C 0.00052 -0.00185 0.00191 -0.00393 0.00139 -0.00578 C 0.0007 -0.00786 -0.00156 -0.0081 -0.00295 -0.00948 C -0.01562 -0.02336 0.00052 -0.0081 -0.01163 -0.0192 C -0.01406 -0.0259 -0.01701 -0.03169 -0.01875 -0.03862 C -0.01875 -0.03932 -0.01771 -0.05435 -0.01597 -0.05782 C -0.01024 -0.06915 0.00122 -0.07285 0.01024 -0.07724 C 0.01493 -0.08349 0.02257 -0.08788 0.02899 -0.09066 C 0.03021 -0.09205 0.03715 -0.09922 0.03924 -0.10037 C 0.04201 -0.10199 0.04792 -0.10407 0.04792 -0.10407 C 0.05781 -0.11725 0.05451 -0.11101 0.05938 -0.12165 C 0.05868 -0.13206 0.06042 -0.14339 0.0566 -0.15241 C 0.05347 -0.15958 0.04636 -0.1686 0.04201 -0.17553 C 0.03733 -0.18317 0.03594 -0.19126 0.03038 -0.19866 C 0.02917 -0.20398 0.02778 -0.20814 0.02465 -0.2123 E">
                                      <p:cBhvr>
                                        <p:cTn id="1011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61425E-006 C -0.0052 -0.01017 -0.01562 -0.01919 -0.02465 -0.02312 C -0.03125 -0.0289 -0.03663 -0.03329 -0.04201 -0.04046 C -0.03663 -0.07145 0.02587 -0.05596 0.02743 -0.05596 C 0.04063 -0.05873 0.054 -0.0622 0.06667 -0.06752 C 0.075 -0.07492 0.08334 -0.07677 0.09271 -0.08094 C 0.09966 -0.08394 0.10625 -0.0888 0.11303 -0.09273 C 0.12032 -0.09689 0.1198 -0.09736 0.12743 -0.10429 C 0.12882 -0.10545 0.13178 -0.10799 0.13178 -0.10799 C 0.13525 -0.12534 0.14219 -0.15008 0.129 -0.16211 C 0.12084 -0.16142 0.1125 -0.16142 0.10434 -0.16026 C 0.09566 -0.1591 0.08803 -0.14962 0.07969 -0.14662 C 0.07518 -0.13783 0.05799 -0.12534 0.04914 -0.12164 C 0.04375 -0.11678 0.03803 -0.11447 0.03178 -0.11193 C 0.01007 -0.11354 -0.01163 -0.11771 -0.03333 -0.11771 E">
                                      <p:cBhvr>
                                        <p:cTn id="10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Diploid sporophyte grows from the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6400800" y="2362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8"/>
          <p:cNvSpPr/>
          <p:nvPr/>
        </p:nvSpPr>
        <p:spPr>
          <a:xfrm flipH="1">
            <a:off x="3885840" y="99000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2666880" y="1371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ddle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ight Brace 11"/>
          <p:cNvSpPr/>
          <p:nvPr/>
        </p:nvSpPr>
        <p:spPr>
          <a:xfrm>
            <a:off x="5791320" y="685800"/>
            <a:ext cx="533160" cy="380988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3809880"/>
              <a:gd name="textAreaBottom" fmla="*/ 379620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16200" y="10800"/>
                  <a:pt x="21600" y="10800"/>
                </a:cubicBezTo>
                <a:cubicBezTo>
                  <a:pt x="162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Fiddlehead uncurls….fronds open 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2838600" cy="5562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0" y="4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) Cycle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6483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7242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4876920" y="1066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4648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-0.00439 0.02327 -0.02129 0.03681 -0.02939 C 0.04028 -0.03148 0.04341 -0.03402 0.04705 -0.03541 C 0.05139 -0.03726 0.06025 -0.03935 0.06025 -0.03935 C 0.11268 -0.03541 0.07327 -0.04004 0.09549 -0.03541 C 0.10243 -0.03402 0.11615 -0.03148 0.11615 -0.03148 C 0.12691 -0.03217 0.13768 -0.0324 0.14844 -0.03333 C 0.16198 -0.03472 0.175 -0.04351 0.1882 -0.04722 C 0.23368 -0.07754 0.28108 -0.1 0.33091 -0.11388 C 0.3316 -0.11388 0.36025 -0.11319 0.3691 -0.10995 C 0.38386 -0.10463 0.37032 -0.10833 0.38091 -0.10208 C 0.38264 -0.10115 0.39098 -0.09884 0.39271 -0.09814 C 0.40695 -0.09259 0.42032 -0.08657 0.43525 -0.08449 C 0.45226 -0.07662 0.47084 -0.08194 0.4882 -0.08634 C 0.49462 -0.08981 0.5007 -0.09189 0.50729 -0.09421 C 0.52309 -0.10972 0.54098 -0.10995 0.56025 -0.10995 E">
                                      <p:cBhvr>
                                        <p:cTn id="1085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71 -0.00139 0.01979 -0.00046 0.03229 -0.00579 C 0.04288 -0.01991 0.05486 -0.03171 0.06475 -0.04699 C 0.07153 -0.05741 0.0743 -0.07106 0.07951 -0.08241 C 0.08107 -0.09074 0.08316 -0.09676 0.0868 -0.10394 C 0.08854 -0.11412 0.09097 -0.11759 0.09566 -0.12546 C 0.09913 -0.13125 0.10278 -0.13866 0.1059 -0.14514 C 0.10833 -0.15023 0.11528 -0.15069 0.11909 -0.15301 C 0.13159 -0.16042 0.14548 -0.16435 0.15885 -0.16852 C 0.17048 -0.17616 0.18316 -0.18704 0.19566 -0.19213 C 0.19705 -0.19352 0.19843 -0.19514 0.2 -0.19606 C 0.20278 -0.19769 0.20607 -0.19792 0.20885 -0.2 C 0.21684 -0.20602 0.225 -0.21597 0.23229 -0.22361 C 0.23403 -0.22546 0.23646 -0.22569 0.23819 -0.22755 C 0.24757 -0.23681 0.25451 -0.24606 0.26614 -0.25093 C 0.27604 -0.25023 0.28593 -0.25046 0.29566 -0.24907 C 0.3151 -0.24606 0.33246 -0.22824 0.35156 -0.22361 C 0.3533 -0.22199 0.36389 -0.21273 0.36614 -0.20972 C 0.37396 -0.19931 0.38003 -0.1831 0.39114 -0.17847 C 0.40139 -0.16782 0.41232 -0.1625 0.425 -0.1588 C 0.43212 -0.15255 0.44028 -0.15116 0.44861 -0.14907 C 0.45451 -0.14977 0.46041 -0.14977 0.46614 -0.15093 C 0.46927 -0.15162 0.475 -0.15486 0.475 -0.15486 C 0.49757 -0.17801 0.52465 -0.19028 0.55295 -0.19028 E">
                                      <p:cBhvr>
                                        <p:cTn id="108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639 0.01088 0.05 -0.0037 0.07361 -0.01574 C 0.0776 -0.01782 0.08004 -0.02338 0.08385 -0.02546 C 0.10243 -0.03541 0.09427 -0.02916 0.10885 -0.04305 C 0.11094 -0.0449 0.11389 -0.04421 0.11632 -0.04514 C 0.12899 -0.05023 0.14167 -0.05254 0.15451 -0.05694 C 0.16962 -0.05602 0.17986 -0.05787 0.19271 -0.05301 C 0.20764 -0.04722 0.21597 -0.03773 0.22656 -0.02361 C 0.22865 -0.02083 0.2316 -0.0199 0.23385 -0.01759 C 0.23924 -0.0125 0.24306 -0.00486 0.24861 0 C 0.25226 0.00324 0.25677 0.00463 0.26042 0.00787 C 0.26476 0.01644 0.27083 0.02246 0.27656 0.0294 C 0.27969 0.03311 0.28542 0.04121 0.28542 0.04121 C 0.28976 0.05903 0.2974 0.07523 0.3059 0.09028 C 0.3092 0.0963 0.31354 0.09607 0.31771 0.1 C 0.32622 0.10811 0.31771 0.10371 0.32656 0.10973 C 0.3401 0.11898 0.35486 0.12338 0.36927 0.1294 C 0.37604 0.13542 0.3816 0.14306 0.38837 0.14908 C 0.39288 0.15787 0.40035 0.16389 0.40451 0.17246 C 0.40677 0.17732 0.40816 0.18079 0.41181 0.18426 C 0.41476 0.18704 0.41875 0.18866 0.42205 0.19028 C 0.4375 0.20533 0.45851 0.21158 0.47656 0.21968 C 0.48629 0.22408 0.49392 0.23357 0.50451 0.23727 C 0.51024 0.24491 0.51788 0.24908 0.525 0.25486 C 0.52795 0.25741 0.53385 0.26273 0.53385 0.26273 E">
                                      <p:cBhvr>
                                        <p:cTn id="108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64 -0.01504 0.03386 -0.01597 0.04705 -0.01967 C 0.10365 -0.01805 0.11702 -0.01597 0.16771 -0.01967 C 0.18316 -0.02083 0.19809 -0.02916 0.21181 -0.03726 C 0.22396 -0.04444 0.23855 -0.04814 0.25157 -0.05092 C 0.26129 -0.05023 0.27119 -0.05023 0.28091 -0.04907 C 0.2882 -0.04838 0.29428 -0.04305 0.30157 -0.0412 C 0.31198 -0.03194 0.30695 -0.03449 0.31615 -0.03125 C 0.32292 -0.02523 0.33021 -0.02222 0.33681 -0.01574 C 0.34028 -0.00856 0.34254 -0.00208 0.34705 0.00394 C 0.34983 0.01783 0.35452 0.03125 0.35747 0.04514 C 0.35955 0.05487 0.36059 0.06412 0.36476 0.07269 C 0.36858 0.08866 0.37796 0.10209 0.38681 0.11366 C 0.38924 0.11667 0.39306 0.1169 0.39566 0.11968 C 0.39723 0.1213 0.39827 0.12408 0.4 0.12547 C 0.40539 0.1294 0.41337 0.13195 0.4191 0.13542 C 0.42119 0.13658 0.42309 0.13797 0.425 0.13936 C 0.42657 0.14051 0.42796 0.14213 0.42952 0.14329 C 0.43195 0.14491 0.4375 0.14607 0.43976 0.147 C 0.44775 0.15 0.45521 0.15533 0.4632 0.1588 C 0.46476 0.16019 0.4665 0.16112 0.46771 0.16274 C 0.46893 0.16436 0.46928 0.16713 0.47066 0.16875 C 0.47761 0.17709 0.47813 0.17616 0.48542 0.17848 C 0.48872 0.18542 0.49132 0.1875 0.49705 0.19028 C 0.50018 0.19329 0.5066 0.197 0.50886 0.2 E">
                                      <p:cBhvr>
                                        <p:cTn id="109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990099"/>
                </a:solidFill>
                <a:uFillTx/>
                <a:latin typeface="Times New Roman"/>
              </a:rPr>
              <a:t>Group 1: Seedless, Nonvascular Pl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ve in moist environments to reprodu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ow low to ground to retain moisture (nonvascula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ck true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 pioneer species during succe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metophyte most common (domina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: Mosses, liverworts, hornw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leaf01"/>
          <p:cNvPicPr/>
          <p:nvPr/>
        </p:nvPicPr>
        <p:blipFill>
          <a:blip r:embed="rId1"/>
          <a:stretch/>
        </p:blipFill>
        <p:spPr>
          <a:xfrm>
            <a:off x="5334120" y="838080"/>
            <a:ext cx="3809880" cy="284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3051488-WeeUmbrellas-P"/>
          <p:cNvPicPr/>
          <p:nvPr/>
        </p:nvPicPr>
        <p:blipFill>
          <a:blip r:embed="rId2"/>
          <a:stretch/>
        </p:blipFill>
        <p:spPr>
          <a:xfrm>
            <a:off x="5334120" y="3862440"/>
            <a:ext cx="3809880" cy="297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AnthoGametoSporoOver500"/>
          <p:cNvPicPr/>
          <p:nvPr/>
        </p:nvPicPr>
        <p:blipFill>
          <a:blip r:embed="rId3"/>
          <a:stretch/>
        </p:blipFill>
        <p:spPr>
          <a:xfrm>
            <a:off x="3657600" y="1295280"/>
            <a:ext cx="5257800" cy="496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oss"/>
          <p:cNvPicPr/>
          <p:nvPr/>
        </p:nvPicPr>
        <p:blipFill>
          <a:blip r:embed="rId4"/>
          <a:stretch/>
        </p:blipFill>
        <p:spPr>
          <a:xfrm>
            <a:off x="4232160" y="762120"/>
            <a:ext cx="491184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obe Kuiz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do moss grow so low to the grou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stage is the main stage of moss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moss reprodu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the major difference between moss and fern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the leaves of ferns call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needed for moss and ferns to reprodu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stage is the main stage of ferns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stage is created when sperm and egg fuse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me the gametophytes of f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s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Iceland_04_E_1_35-Moss_Lava_Field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02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14720" y="444816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6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8"/>
          <a:stretch/>
        </p:blipFill>
        <p:spPr>
          <a:xfrm>
            <a:off x="517212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9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10"/>
          <a:stretch/>
        </p:blipFill>
        <p:spPr>
          <a:xfrm>
            <a:off x="6543720" y="464832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11"/>
          <a:stretch/>
        </p:blipFill>
        <p:spPr>
          <a:xfrm>
            <a:off x="7153200" y="41148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12"/>
          <a:stretch/>
        </p:blipFill>
        <p:spPr>
          <a:xfrm>
            <a:off x="7915320" y="4648320"/>
            <a:ext cx="390600" cy="1724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3"/>
          <a:stretch/>
        </p:blipFill>
        <p:spPr>
          <a:xfrm>
            <a:off x="2657520" y="41911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14"/>
          <a:stretch/>
        </p:blipFill>
        <p:spPr>
          <a:xfrm>
            <a:off x="4714920" y="40957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15"/>
          <a:stretch/>
        </p:blipFill>
        <p:spPr>
          <a:xfrm>
            <a:off x="5324400" y="3562200"/>
            <a:ext cx="162000" cy="8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16"/>
          <a:stretch/>
        </p:blipFill>
        <p:spPr>
          <a:xfrm>
            <a:off x="7305840" y="3409920"/>
            <a:ext cx="16164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6"/>
          <p:cNvSpPr/>
          <p:nvPr/>
        </p:nvSpPr>
        <p:spPr>
          <a:xfrm>
            <a:off x="0" y="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Moss gametophytes grow near the ground (haploid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1905120" y="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Through water, sperm from the male gametophyte will swim to the female gametophyte to create a diploid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426708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Diploid sporophyte will grow from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61"/>
          <p:cNvSpPr/>
          <p:nvPr/>
        </p:nvSpPr>
        <p:spPr>
          <a:xfrm>
            <a:off x="457200" y="48769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2"/>
          <p:cNvSpPr/>
          <p:nvPr/>
        </p:nvSpPr>
        <p:spPr>
          <a:xfrm>
            <a:off x="1066680" y="4343400"/>
            <a:ext cx="15264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3"/>
          <p:cNvSpPr/>
          <p:nvPr/>
        </p:nvSpPr>
        <p:spPr>
          <a:xfrm>
            <a:off x="8077320" y="46483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4"/>
          <p:cNvSpPr/>
          <p:nvPr/>
        </p:nvSpPr>
        <p:spPr>
          <a:xfrm>
            <a:off x="6629400" y="4724280"/>
            <a:ext cx="152280" cy="1526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7"/>
          <p:cNvSpPr/>
          <p:nvPr/>
        </p:nvSpPr>
        <p:spPr>
          <a:xfrm>
            <a:off x="678168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orophyte will create and release haploid sp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70"/>
          <p:cNvSpPr/>
          <p:nvPr/>
        </p:nvSpPr>
        <p:spPr>
          <a:xfrm>
            <a:off x="5257800" y="3409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1"/>
          <p:cNvSpPr/>
          <p:nvPr/>
        </p:nvSpPr>
        <p:spPr>
          <a:xfrm>
            <a:off x="533412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2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3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5257800" y="34862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8"/>
          <p:cNvSpPr/>
          <p:nvPr/>
        </p:nvSpPr>
        <p:spPr>
          <a:xfrm flipH="1" flipV="1">
            <a:off x="213372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83808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ploid 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-380880" y="4267080"/>
            <a:ext cx="9905760" cy="1143000"/>
          </a:xfrm>
          <a:prstGeom prst="rect">
            <a:avLst/>
          </a:pr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65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66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8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5"/>
          <p:cNvSpPr/>
          <p:nvPr/>
        </p:nvSpPr>
        <p:spPr>
          <a:xfrm>
            <a:off x="838080" y="539100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76"/>
          <p:cNvSpPr/>
          <p:nvPr/>
        </p:nvSpPr>
        <p:spPr>
          <a:xfrm>
            <a:off x="228600" y="539100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64008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0"/>
          <p:cNvSpPr/>
          <p:nvPr/>
        </p:nvSpPr>
        <p:spPr>
          <a:xfrm>
            <a:off x="784872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83"/>
          <p:cNvSpPr/>
          <p:nvPr/>
        </p:nvSpPr>
        <p:spPr>
          <a:xfrm>
            <a:off x="70866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84"/>
          <p:cNvSpPr/>
          <p:nvPr/>
        </p:nvSpPr>
        <p:spPr>
          <a:xfrm>
            <a:off x="50292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85"/>
          <p:cNvSpPr/>
          <p:nvPr/>
        </p:nvSpPr>
        <p:spPr>
          <a:xfrm>
            <a:off x="43434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86"/>
          <p:cNvSpPr/>
          <p:nvPr/>
        </p:nvSpPr>
        <p:spPr>
          <a:xfrm>
            <a:off x="22860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87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8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89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90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http://www.perspective.com/nature/plantae/polytrichum-1128-18.jpg"/>
          <p:cNvPicPr/>
          <p:nvPr/>
        </p:nvPicPr>
        <p:blipFill>
          <a:blip r:embed="rId17"/>
          <a:stretch/>
        </p:blipFill>
        <p:spPr>
          <a:xfrm>
            <a:off x="990720" y="2031840"/>
            <a:ext cx="7238880" cy="482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celand_04_E_1_35-Moss_Lava_Field"/>
          <p:cNvPicPr/>
          <p:nvPr/>
        </p:nvPicPr>
        <p:blipFill>
          <a:blip r:embed="rId18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7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665 -0.00121 0.02521 -0.00434 0.03931 C -0.0052 0.04302 -0.00625 0.04695 -0.00711 0.05065 C -0.00764 0.0525 -0.0085 0.0562 -0.0085 0.0562 C 0.00261 0.06614 0.00677 0.06129 0.02379 0.0599 C 0.02483 0.05874 0.02552 0.05689 0.02674 0.0562 C 0.02934 0.05458 0.03507 0.0525 0.03507 0.0525 C 0.03889 0.05735 0.04289 0.05967 0.04775 0.06175 C 0.06493 0.06059 0.0757 0.05759 0.0915 0.0599 C 0.09809 0.0629 0.09601 0.0629 0.10539 0.0599 C 0.10851 0.05897 0.11389 0.0562 0.11389 0.0562 C 0.12587 0.06152 0.13872 0.05666 0.1507 0.06175 C 0.17622 0.05874 0.204 0.06082 0.22934 0.0599 C 0.24306 0.05388 0.23664 0.03215 0.23802 0.01503 C 0.23802 0.01295 0.23941 0.00925 0.23941 0.00925 E">
                                      <p:cBhvr>
                                        <p:cTn id="17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0.00856 -0.0026 0.01688 -0.00434 0.02521 C -0.00382 0.05921 -0.00417 0.09343 -0.00278 0.12743 C -0.00243 0.13552 0.00903 0.15379 0.01458 0.15657 C 0.01823 0.15842 0.02604 0.16027 0.02604 0.16027 C 0.0566 0.15888 0.06563 0.15518 0.09132 0.16027 C 0.10313 0.176 0.11736 0.16721 0.1349 0.16605 C 0.14375 0.16166 0.15018 0.15888 0.15938 0.15657 C 0.19063 0.16143 0.22049 0.16466 0.25226 0.16605 C 0.27795 0.16929 0.3033 0.1649 0.32899 0.16813 C 0.33715 0.1716 0.34531 0.17484 0.35365 0.17762 C 0.36268 0.17623 0.37101 0.17507 0.37969 0.17183 C 0.39375 0.15981 0.41702 0.1649 0.43056 0.1642 C 0.44306 0.16281 0.4467 0.16258 0.4566 0.15842 C 0.45903 0.15518 0.46389 0.14917 0.46528 0.14501 C 0.46632 0.142 0.46597 0.13853 0.46667 0.13529 C 0.46736 0.13252 0.46858 0.12997 0.46962 0.12743 C 0.4691 0.08881 0.46667 0.05042 0.46667 0.01365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2312 -0.00035 0.05065 -0.00573 0.07331 C -0.00625 0.08349 -0.00556 0.09412 -0.00729 0.10407 C -0.00799 0.10846 -0.02517 0.11309 -0.0276 0.11378 C -0.03524 0.11309 -0.04306 0.11309 -0.05069 0.11193 C -0.06024 0.11054 -0.06997 0.10407 -0.07969 0.10222 C -0.08281 0.09597 -0.08681 0.09112 -0.08993 0.08487 C -0.10347 0.02844 -0.09271 0.07724 -0.09271 -0.0677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809 -0.00434 0.02498 -0.00434 0.02498 C -0.00278 0.03469 -0.00035 0.04417 0.00156 0.05389 C 0.00104 0.06152 0.00122 0.06938 0 0.07701 C -0.00156 0.08811 -0.01528 0.09043 -0.0217 0.09251 C -0.08021 0.09181 -0.14826 0.13159 -0.19705 0.08881 C -0.20208 0.08441 -0.20347 0.07771 -0.20868 0.07331 C -0.21146 0.06753 -0.21285 0.06244 -0.21441 0.05597 C -0.21285 0.02891 -0.21302 0.03908 -0.21302 0.02498 E">
                                      <p:cBhvr>
                                        <p:cTn id="21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1156 0.0092 -0.03284 0.01979 -0.04302 C 0.03177 -0.05435 0.04636 -0.05689 0.0592 -0.06545 C 0.06407 -0.07239 0.06823 -0.07932 0.07327 -0.08626 C 0.07639 -0.09043 0.07726 -0.09713 0.08039 -0.10129 C 0.0908 -0.11517 0.1007 -0.12835 0.11407 -0.13691 C 0.11945 -0.14038 0.13021 -0.14015 0.13386 -0.14061 C 0.13629 -0.14246 0.13837 -0.14477 0.14098 -0.14616 C 0.14271 -0.14709 0.14479 -0.14685 0.14653 -0.14801 C 0.14775 -0.14894 0.14827 -0.15102 0.14931 -0.15194 C 0.15295 -0.15541 0.15677 -0.15819 0.16059 -0.16119 C 0.17049 -0.16929 0.1783 -0.18062 0.18872 -0.18756 C 0.19358 -0.19658 0.19948 -0.20236 0.20712 -0.20629 C 0.21337 -0.21462 0.23073 -0.22664 0.23941 -0.23057 C 0.2467 -0.24029 0.25539 -0.24237 0.26493 -0.24561 C 0.26962 -0.24722 0.279 -0.24954 0.279 -0.24954 C 0.28507 -0.2537 0.29132 -0.25416 0.29723 -0.25879 C 0.30729 -0.26688 0.31927 -0.27706 0.33108 -0.27937 C 0.33611 -0.2803 0.34132 -0.28053 0.34653 -0.28122 C 0.34983 -0.28168 0.35313 -0.28261 0.35643 -0.2833 C 0.36459 -0.28862 0.37379 -0.28908 0.38177 -0.2944 C 0.3882 -0.2988 0.39306 -0.30412 0.4 -0.30759 C 0.41077 -0.3129 0.42414 -0.31383 0.43525 -0.31499 C 0.43664 -0.31568 0.43802 -0.31614 0.43941 -0.31707 C 0.44098 -0.31799 0.44219 -0.31984 0.44375 -0.32077 C 0.45486 -0.32724 0.44948 -0.32123 0.45365 -0.32632 E">
                                      <p:cBhvr>
                                        <p:cTn id="28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03 0.00469 -0.00624 0.00712 -0.00925 C 0.00816 -0.01064 0.00764 -0.01341 0.00851 -0.01503 C 0.00955 -0.01711 0.01111 -0.01896 0.01268 -0.02058 C 0.01528 -0.02336 0.0184 -0.02544 0.02118 -0.02798 C 0.02535 -0.03168 0.02778 -0.03908 0.03247 -0.04116 C 0.05747 -0.05203 0.06233 -0.05249 0.09306 -0.05435 C 0.10834 -0.06105 0.12483 -0.06521 0.14097 -0.06753 C 0.14948 -0.07123 0.15608 -0.074 0.16354 -0.08071 C 0.17136 -0.09644 0.16077 -0.07655 0.17049 -0.08996 C 0.17639 -0.09805 0.18247 -0.11332 0.18889 -0.12002 C 0.19011 -0.12118 0.19167 -0.12095 0.19306 -0.12188 C 0.204 -0.12904 0.20104 -0.12928 0.21563 -0.13136 C 0.22327 -0.1339 0.22969 -0.13598 0.23663 -0.14061 C 0.2415 -0.14385 0.24809 -0.15171 0.25365 -0.15194 C 0.2757 -0.1531 0.29775 -0.1531 0.31979 -0.15379 C 0.32361 -0.15726 0.32691 -0.16235 0.33108 -0.16512 C 0.33993 -0.17137 0.35382 -0.17252 0.36354 -0.17437 C 0.37587 -0.18085 0.38507 -0.18385 0.39861 -0.1857 C 0.41215 -0.19149 0.42691 -0.18825 0.44097 -0.19126 C 0.44792 -0.19588 0.45712 -0.20259 0.46493 -0.20259 E">
                                      <p:cBhvr>
                                        <p:cTn id="2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37 0.00468 -0.00694 0.00555 -0.01133 C 0.00607 -0.01387 0.00607 -0.01665 0.00711 -0.01896 C 0.01111 -0.02821 0.01996 -0.03191 0.02673 -0.03769 C 0.03229 -0.04232 0.04514 -0.04695 0.04514 -0.04695 C 0.04705 -0.05111 0.05017 -0.05411 0.05208 -0.05828 C 0.06024 -0.07585 0.05034 -0.06152 0.05781 -0.07146 C 0.06093 -0.08395 0.06041 -0.08302 0.06753 -0.09019 C 0.06857 -0.09158 0.06927 -0.0932 0.07048 -0.09412 C 0.07222 -0.09505 0.07413 -0.09505 0.07604 -0.09597 C 0.07882 -0.0969 0.08455 -0.09944 0.08455 -0.09944 C 0.08958 -0.10407 0.09479 -0.10707 0.1 -0.11078 C 0.10868 -0.11725 0.1151 -0.12488 0.12257 -0.13321 C 0.12673 -0.13783 0.13003 -0.14408 0.13385 -0.14847 C 0.13645 -0.15125 0.14218 -0.15587 0.14218 -0.15587 C 0.15208 -0.17437 0.15885 -0.17437 0.17048 -0.18964 C 0.17673 -0.19796 0.18298 -0.20652 0.19149 -0.21022 C 0.19409 -0.21369 0.19739 -0.21623 0.2 -0.2197 C 0.20694 -0.22918 0.21145 -0.23959 0.21979 -0.24769 C 0.22257 -0.26318 0.21892 -0.24769 0.22534 -0.26272 C 0.23142 -0.27706 0.23611 -0.29579 0.2493 -0.30018 C 0.26545 -0.31152 0.2835 -0.31522 0.30139 -0.31915 C 0.31319 -0.32169 0.32482 -0.324 0.33663 -0.32655 C 0.33889 -0.32701 0.34132 -0.32747 0.34357 -0.3284 C 0.34652 -0.32932 0.35208 -0.3321 0.35208 -0.3321 C 0.35642 -0.33811 0.36041 -0.33765 0.36614 -0.34343 C 0.36979 -0.358 0.36441 -0.34112 0.37187 -0.35106 C 0.37378 -0.35361 0.3743 -0.35754 0.37604 -0.36031 C 0.37708 -0.36193 0.37899 -0.36263 0.3802 -0.36401 C 0.38663 -0.37164 0.39166 -0.37905 0.4 -0.38275 C 0.40816 -0.39038 0.41718 -0.39454 0.42673 -0.39778 C 0.43368 -0.40263 0.44045 -0.40263 0.44791 -0.40541 C 0.4526 -0.40726 0.4559 -0.41073 0.46059 -0.41281 C 0.46562 -0.4172 0.46475 -0.4142 0.46475 -0.42044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0439 -0.00157 0.00208 0.00711 -0.00948 C 0.00902 -0.01202 0.0118 -0.01295 0.01406 -0.01503 C 0.02274 -0.02359 0.02274 -0.02521 0.03385 -0.02821 C 0.04375 -0.03492 0.05381 -0.03515 0.06475 -0.03746 C 0.07118 -0.04186 0.07691 -0.04787 0.08316 -0.0525 C 0.08593 -0.05458 0.09218 -0.05527 0.09444 -0.0562 C 0.10017 -0.05828 0.09791 -0.05897 0.10416 -0.06198 C 0.11197 -0.06568 0.12031 -0.06776 0.12812 -0.07123 C 0.13177 -0.07608 0.14027 -0.08418 0.14513 -0.08626 C 0.14965 -0.09435 0.15208 -0.10222 0.15642 -0.11077 C 0.15816 -0.11771 0.15781 -0.12604 0.16197 -0.13136 C 0.1776 -0.15171 0.21059 -0.14731 0.22812 -0.14824 C 0.23454 -0.1524 0.24253 -0.16027 0.2493 -0.16327 C 0.25486 -0.16905 0.26093 -0.17391 0.26614 -0.18015 C 0.2717 -0.18663 0.27569 -0.19565 0.28177 -0.20074 C 0.28958 -0.21392 0.29982 -0.22201 0.31128 -0.22895 C 0.31649 -0.23196 0.32118 -0.23751 0.32673 -0.2382 C 0.33663 -0.23936 0.34652 -0.23959 0.35642 -0.24028 C 0.37048 -0.24954 0.37951 -0.2567 0.39583 -0.25902 C 0.41041 -0.26549 0.41128 -0.2648 0.42951 -0.26642 C 0.43715 -0.2685 0.44444 -0.27058 0.45208 -0.27197 C 0.4585 -0.27497 0.4618 -0.28145 0.4677 -0.28515 E">
                                      <p:cBhvr>
                                        <p:cTn id="28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0416 0.00608 -0.00786 0.0099 -0.01133 C 0.01337 -0.02498 0.00834 -0.00809 0.01563 -0.02243 C 0.01945 -0.03006 0.01667 -0.03168 0.02535 -0.03562 C 0.04028 -0.05065 0.04532 -0.04903 0.06493 -0.05065 C 0.07257 -0.05412 0.07882 -0.05967 0.08594 -0.06383 C 0.09601 -0.06961 0.10608 -0.07007 0.11702 -0.07123 C 0.125 -0.07516 0.13073 -0.07909 0.13941 -0.08071 C 0.15104 -0.0858 0.14497 -0.08395 0.15782 -0.08626 C 0.17101 -0.09204 0.19184 -0.08141 0.20434 -0.07331 C 0.22726 -0.0784 0.19757 -0.07239 0.24792 -0.07701 C 0.25851 -0.07794 0.26979 -0.08395 0.28039 -0.08626 C 0.29184 -0.09436 0.29445 -0.09898 0.30712 -0.1013 C 0.32257 -0.10823 0.34098 -0.10407 0.35643 -0.10315 C 0.379 -0.08811 0.3882 -0.08788 0.41563 -0.08626 C 0.43073 -0.08418 0.44809 -0.08441 0.46198 -0.07516 E">
                                      <p:cBhvr>
                                        <p:cTn id="29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0" y="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Haploid spores land and grow into new gametoph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533520" y="1295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228600" y="15048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-1371600" y="1123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-2286000" y="1276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-914400" y="14288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4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6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2895480" y="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The process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71323E-007 C 0.02066 0.00301 0.02986 0.00602 0.05365 0.00741 C 0.05833 0.00949 0.06337 0.01157 0.06771 0.01504 C 0.06962 0.01666 0.07101 0.0192 0.07327 0.02059 C 0.07587 0.02244 0.08177 0.02429 0.08177 0.02429 C 0.08872 0.03377 0.09774 0.04556 0.10712 0.05065 C 0.12761 0.06198 0.16163 0.05898 0.18038 0.0599 C 0.18663 0.06222 0.1908 0.06592 0.19722 0.06753 C 0.20955 0.0754 0.22205 0.08557 0.23524 0.08997 C 0.25469 0.10662 0.23333 0.08974 0.29167 0.09575 C 0.29549 0.09621 0.29896 0.10037 0.30295 0.1013 C 0.31059 0.10801 0.3191 0.11356 0.32813 0.11633 C 0.34045 0.12628 0.35243 0.13599 0.36493 0.14455 C 0.36945 0.14755 0.37309 0.15264 0.37761 0.15565 C 0.3849 0.1605 0.38767 0.16097 0.39445 0.16328 C 0.40087 0.16767 0.40781 0.16837 0.41424 0.17253 C 0.42188 0.17762 0.42778 0.18155 0.43524 0.18756 C 0.43767 0.18941 0.44045 0.19034 0.44236 0.19311 C 0.44323 0.1945 0.4441 0.19589 0.44514 0.19704 C 0.44792 0.19982 0.45365 0.20445 0.45365 0.20445 C 0.45886 0.21485 0.46719 0.22133 0.47327 0.23081 C 0.47969 0.24099 0.48333 0.25347 0.49028 0.26272 C 0.49306 0.27706 0.5 0.28909 0.50712 0.30019 C 0.51267 0.30875 0.51667 0.31846 0.52257 0.32632 C 0.52882 0.36957 0.51267 0.42091 0.53108 0.45768 C 0.53386 0.47248 0.53559 0.48867 0.53958 0.50278 C 0.54219 0.52706 0.54566 0.57586 0.53108 0.59667 C 0.52691 0.61356 0.53212 0.63044 0.53958 0.64362 C 0.5434 0.65889 0.54896 0.67299 0.55226 0.68849 C 0.5533 0.7056 0.55642 0.72387 0.55642 0.74099 E">
                                      <p:cBhvr>
                                        <p:cTn id="30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1.11111E-006 C 0.02517 0.00255 0.03628 0.00509 0.06528 0.00625 C 0.07101 0.00787 0.07708 0.00972 0.08247 0.01273 C 0.0849 0.01412 0.08646 0.0162 0.08924 0.01736 C 0.09253 0.01898 0.09965 0.0206 0.09965 0.02083 C 0.10816 0.02847 0.1191 0.03866 0.13056 0.04283 C 0.15573 0.05255 0.19705 0.05 0.21997 0.0507 C 0.2276 0.05278 0.23264 0.05579 0.24063 0.05718 C 0.25556 0.06389 0.27083 0.07269 0.28698 0.07639 C 0.31059 0.09051 0.28455 0.07616 0.35573 0.08125 C 0.36042 0.08171 0.36476 0.08519 0.36962 0.08588 C 0.37899 0.09167 0.38941 0.0963 0.40035 0.09884 C 0.41545 0.10718 0.43003 0.11528 0.44514 0.12245 C 0.45069 0.125 0.45521 0.1294 0.46076 0.13195 C 0.46962 0.13611 0.47292 0.13658 0.48142 0.13843 C 0.48924 0.14213 0.49757 0.14283 0.50538 0.1463 C 0.51476 0.1507 0.52188 0.15394 0.53108 0.15903 C 0.5342 0.16065 0.53733 0.16134 0.53976 0.16389 C 0.5408 0.16505 0.54201 0.1662 0.54323 0.16713 C 0.54653 0.16945 0.55347 0.17338 0.55347 0.17361 C 0.5599 0.18218 0.57014 0.18773 0.5776 0.19583 C 0.58524 0.2044 0.58976 0.21505 0.59826 0.22292 C 0.60174 0.23519 0.61007 0.24537 0.61875 0.25486 C 0.62552 0.26204 0.63056 0.27037 0.63767 0.27708 C 0.64531 0.31389 0.62552 0.35718 0.64809 0.38843 C 0.65156 0.40116 0.65347 0.41482 0.65851 0.42685 C 0.66163 0.44745 0.66597 0.48889 0.64809 0.50671 C 0.64288 0.52083 0.64931 0.53519 0.65851 0.54607 C 0.66302 0.55926 0.66997 0.5713 0.67396 0.58449 C 0.67517 0.59908 0.67917 0.61458 0.67917 0.62917 E">
                                      <p:cBhvr>
                                        <p:cTn id="304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0.02101 0.00254 0.03038 0.00532 0.05434 0.00671 C 0.05903 0.00856 0.06424 0.01041 0.06858 0.01365 C 0.07049 0.01504 0.07187 0.01736 0.07431 0.01851 C 0.07674 0.02037 0.08281 0.02199 0.08281 0.02222 C 0.08976 0.03055 0.09913 0.04143 0.10851 0.04606 C 0.12917 0.05625 0.16337 0.05347 0.18212 0.05439 C 0.18837 0.05648 0.19271 0.05995 0.19913 0.06134 C 0.21163 0.06851 0.22431 0.07777 0.23767 0.08171 C 0.25729 0.09699 0.23559 0.08148 0.29462 0.08703 C 0.29861 0.0875 0.30208 0.0912 0.30608 0.09213 C 0.31389 0.09814 0.3224 0.10324 0.3316 0.10578 C 0.3441 0.11481 0.35608 0.12338 0.36875 0.13125 C 0.37326 0.13402 0.37691 0.13865 0.38142 0.1412 C 0.38889 0.14583 0.39184 0.14606 0.39844 0.14814 C 0.40503 0.15231 0.41215 0.15277 0.41858 0.15671 C 0.42639 0.16134 0.43229 0.16481 0.43976 0.17037 C 0.44236 0.17199 0.44514 0.17291 0.44705 0.17546 C 0.44792 0.17662 0.44878 0.178 0.44983 0.17893 C 0.4526 0.18148 0.45833 0.18564 0.45833 0.18588 C 0.46372 0.19513 0.47205 0.20115 0.4783 0.20972 C 0.48472 0.21898 0.48837 0.23032 0.49549 0.23865 C 0.49826 0.25185 0.50521 0.26273 0.5125 0.27291 C 0.51806 0.28055 0.52205 0.28935 0.52813 0.29652 C 0.53438 0.33588 0.51806 0.3824 0.53681 0.41597 C 0.53941 0.42939 0.54132 0.44421 0.54531 0.45694 C 0.54792 0.47916 0.55139 0.52338 0.53681 0.54236 C 0.53264 0.55787 0.53785 0.57314 0.54531 0.58472 C 0.54913 0.59884 0.55486 0.61157 0.55816 0.62569 C 0.5592 0.6412 0.56233 0.65787 0.56233 0.67361 E">
                                      <p:cBhvr>
                                        <p:cTn id="306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C 0.01858 0.00254 0.02674 0.00509 0.04792 0.00648 C 0.05208 0.00833 0.0566 0.00995 0.06059 0.01319 C 0.06215 0.01458 0.06337 0.01666 0.06545 0.01805 C 0.06771 0.01967 0.07292 0.02129 0.07292 0.02153 C 0.07934 0.02963 0.08733 0.04004 0.09566 0.04444 C 0.11372 0.0544 0.14427 0.05185 0.16094 0.05254 C 0.16649 0.05463 0.17014 0.05787 0.17587 0.05926 C 0.18681 0.0662 0.19792 0.07523 0.20972 0.07893 C 0.22726 0.09375 0.20799 0.07893 0.25972 0.08403 C 0.26319 0.08449 0.26632 0.08819 0.26979 0.08912 C 0.27656 0.09491 0.2842 0.09977 0.29219 0.10231 C 0.30313 0.11088 0.31389 0.11944 0.325 0.12685 C 0.32917 0.1294 0.33229 0.13403 0.33628 0.13657 C 0.34271 0.14097 0.34531 0.1412 0.35122 0.14328 C 0.35712 0.14722 0.36319 0.14791 0.36892 0.15139 C 0.37569 0.15602 0.38108 0.15949 0.38767 0.16481 C 0.38993 0.16643 0.39236 0.16713 0.39392 0.16967 C 0.39479 0.17083 0.39549 0.17199 0.39653 0.17315 C 0.39896 0.17546 0.40399 0.17963 0.40399 0.17986 C 0.40868 0.18866 0.41615 0.19444 0.42153 0.20278 C 0.42726 0.2118 0.43056 0.22268 0.43663 0.23078 C 0.43924 0.24352 0.44531 0.25393 0.45174 0.26389 C 0.4566 0.27129 0.46024 0.27986 0.46545 0.2868 C 0.47101 0.32477 0.4566 0.36991 0.47309 0.40208 C 0.47552 0.41528 0.47708 0.4294 0.48073 0.4419 C 0.48299 0.46319 0.48594 0.50625 0.47309 0.52453 C 0.46927 0.53935 0.47413 0.55416 0.48073 0.56551 C 0.4842 0.57893 0.48906 0.59143 0.49201 0.60509 C 0.49288 0.62014 0.49583 0.63611 0.49583 0.65139 E">
                                      <p:cBhvr>
                                        <p:cTn id="308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0 C 0.01719 0.00301 0.02483 0.00602 0.04462 0.00741 C 0.04861 0.00949 0.05278 0.01157 0.05642 0.01505 C 0.05799 0.01667 0.05903 0.01921 0.06094 0.0206 C 0.06319 0.02245 0.06806 0.02431 0.06806 0.02454 C 0.07378 0.0338 0.08125 0.0456 0.08889 0.05069 C 0.1059 0.06204 0.1342 0.05903 0.14983 0.05995 C 0.15503 0.06227 0.15851 0.06597 0.16389 0.06759 C 0.17413 0.07546 0.18455 0.08565 0.19549 0.09005 C 0.21163 0.10671 0.19392 0.08981 0.24236 0.09583 C 0.24549 0.0963 0.24844 0.10046 0.25174 0.10139 C 0.25816 0.1081 0.2651 0.11366 0.27257 0.11644 C 0.28281 0.12639 0.29288 0.13588 0.3033 0.14444 C 0.30694 0.14745 0.31007 0.15255 0.31372 0.15556 C 0.31979 0.16042 0.32222 0.16088 0.32778 0.16319 C 0.33316 0.16759 0.33889 0.16829 0.34427 0.17245 C 0.35052 0.17755 0.35556 0.18148 0.36163 0.1875 C 0.36372 0.18935 0.36597 0.19028 0.36753 0.19306 C 0.3684 0.19444 0.3691 0.19583 0.36997 0.19699 C 0.37222 0.19977 0.37691 0.2044 0.37691 0.20463 C 0.38125 0.21481 0.38819 0.2213 0.39323 0.23079 C 0.39861 0.24097 0.40174 0.25347 0.40747 0.26273 C 0.40972 0.27708 0.41545 0.28912 0.42135 0.30023 C 0.42604 0.3088 0.42934 0.31852 0.4342 0.32639 C 0.43941 0.36968 0.42604 0.42083 0.44132 0.45764 C 0.44358 0.47245 0.44514 0.48866 0.44844 0.50278 C 0.45052 0.52708 0.45347 0.57593 0.44132 0.59676 C 0.43785 0.61366 0.44219 0.63056 0.44844 0.64329 C 0.45156 0.6588 0.45625 0.67292 0.45903 0.68843 C 0.4599 0.70556 0.4625 0.72384 0.4625 0.74097 E">
                                      <p:cBhvr>
                                        <p:cTn id="310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5"/>
          <a:stretch/>
        </p:blipFill>
        <p:spPr>
          <a:xfrm>
            <a:off x="3114720" y="444816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7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8"/>
          <a:stretch/>
        </p:blipFill>
        <p:spPr>
          <a:xfrm>
            <a:off x="517212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9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10"/>
          <a:stretch/>
        </p:blipFill>
        <p:spPr>
          <a:xfrm>
            <a:off x="6543720" y="464832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11"/>
          <a:stretch/>
        </p:blipFill>
        <p:spPr>
          <a:xfrm>
            <a:off x="7153200" y="41148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12"/>
          <a:stretch/>
        </p:blipFill>
        <p:spPr>
          <a:xfrm>
            <a:off x="7915320" y="4648320"/>
            <a:ext cx="390600" cy="17240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3"/>
          <a:stretch/>
        </p:blipFill>
        <p:spPr>
          <a:xfrm>
            <a:off x="2657520" y="41911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14"/>
          <a:stretch/>
        </p:blipFill>
        <p:spPr>
          <a:xfrm>
            <a:off x="4714920" y="40957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5"/>
          <a:stretch/>
        </p:blipFill>
        <p:spPr>
          <a:xfrm>
            <a:off x="5324400" y="3562200"/>
            <a:ext cx="162000" cy="85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16"/>
          <a:stretch/>
        </p:blipFill>
        <p:spPr>
          <a:xfrm>
            <a:off x="7305840" y="3409920"/>
            <a:ext cx="161640" cy="857160"/>
          </a:xfrm>
          <a:prstGeom prst="rect">
            <a:avLst/>
          </a:prstGeom>
          <a:ln w="0">
            <a:noFill/>
          </a:ln>
        </p:spPr>
      </p:pic>
      <p:sp>
        <p:nvSpPr>
          <p:cNvPr id="149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457200" y="48769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1066680" y="4343400"/>
            <a:ext cx="15264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8077320" y="46483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6629400" y="4724280"/>
            <a:ext cx="152280" cy="1526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5257800" y="3409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71"/>
          <p:cNvSpPr/>
          <p:nvPr/>
        </p:nvSpPr>
        <p:spPr>
          <a:xfrm>
            <a:off x="533412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2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73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74"/>
          <p:cNvSpPr/>
          <p:nvPr/>
        </p:nvSpPr>
        <p:spPr>
          <a:xfrm>
            <a:off x="5257800" y="34862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8"/>
          <p:cNvSpPr/>
          <p:nvPr/>
        </p:nvSpPr>
        <p:spPr>
          <a:xfrm flipH="1" flipV="1">
            <a:off x="21337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8380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0"/>
          <p:cNvSpPr/>
          <p:nvPr/>
        </p:nvSpPr>
        <p:spPr>
          <a:xfrm>
            <a:off x="-380880" y="4267080"/>
            <a:ext cx="9905760" cy="1143000"/>
          </a:xfrm>
          <a:prstGeom prst="rect">
            <a:avLst/>
          </a:pr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0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5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66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68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5"/>
          <p:cNvSpPr/>
          <p:nvPr/>
        </p:nvSpPr>
        <p:spPr>
          <a:xfrm>
            <a:off x="838080" y="539100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76"/>
          <p:cNvSpPr/>
          <p:nvPr/>
        </p:nvSpPr>
        <p:spPr>
          <a:xfrm>
            <a:off x="228600" y="539100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79"/>
          <p:cNvSpPr/>
          <p:nvPr/>
        </p:nvSpPr>
        <p:spPr>
          <a:xfrm>
            <a:off x="64008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80"/>
          <p:cNvSpPr/>
          <p:nvPr/>
        </p:nvSpPr>
        <p:spPr>
          <a:xfrm>
            <a:off x="784872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83"/>
          <p:cNvSpPr/>
          <p:nvPr/>
        </p:nvSpPr>
        <p:spPr>
          <a:xfrm>
            <a:off x="70866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84"/>
          <p:cNvSpPr/>
          <p:nvPr/>
        </p:nvSpPr>
        <p:spPr>
          <a:xfrm>
            <a:off x="50292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85"/>
          <p:cNvSpPr/>
          <p:nvPr/>
        </p:nvSpPr>
        <p:spPr>
          <a:xfrm>
            <a:off x="43434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86"/>
          <p:cNvSpPr/>
          <p:nvPr/>
        </p:nvSpPr>
        <p:spPr>
          <a:xfrm>
            <a:off x="22860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5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665 -0.00121 0.02521 -0.00434 0.03931 C -0.0052 0.04302 -0.00625 0.04695 -0.00711 0.05065 C -0.00764 0.0525 -0.0085 0.0562 -0.0085 0.0562 C 0.00261 0.06614 0.00677 0.06129 0.02379 0.0599 C 0.02483 0.05874 0.02552 0.05689 0.02674 0.0562 C 0.02934 0.05458 0.03507 0.0525 0.03507 0.0525 C 0.03889 0.05735 0.04289 0.05967 0.04775 0.06175 C 0.06493 0.06059 0.0757 0.05759 0.0915 0.0599 C 0.09809 0.0629 0.09601 0.0629 0.10539 0.0599 C 0.10851 0.05897 0.11389 0.0562 0.11389 0.0562 C 0.12587 0.06152 0.13872 0.05666 0.1507 0.06175 C 0.17622 0.05874 0.204 0.06082 0.22934 0.0599 C 0.24306 0.05388 0.23664 0.03215 0.23802 0.01503 C 0.23802 0.01295 0.23941 0.00925 0.23941 0.00925 E">
                                      <p:cBhvr>
                                        <p:cTn id="4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0.00856 -0.0026 0.01688 -0.00434 0.02521 C -0.00382 0.05921 -0.00417 0.09343 -0.00278 0.12743 C -0.00243 0.13552 0.00903 0.15379 0.01458 0.15657 C 0.01823 0.15842 0.02604 0.16027 0.02604 0.16027 C 0.0566 0.15888 0.06563 0.15518 0.09132 0.16027 C 0.10313 0.176 0.11736 0.16721 0.1349 0.16605 C 0.14375 0.16166 0.15018 0.15888 0.15938 0.15657 C 0.19063 0.16143 0.22049 0.16466 0.25226 0.16605 C 0.27795 0.16929 0.3033 0.1649 0.32899 0.16813 C 0.33715 0.1716 0.34531 0.17484 0.35365 0.17762 C 0.36268 0.17623 0.37101 0.17507 0.37969 0.17183 C 0.39375 0.15981 0.41702 0.1649 0.43056 0.1642 C 0.44306 0.16281 0.4467 0.16258 0.4566 0.15842 C 0.45903 0.15518 0.46389 0.14917 0.46528 0.14501 C 0.46632 0.142 0.46597 0.13853 0.46667 0.13529 C 0.46736 0.13252 0.46858 0.12997 0.46962 0.12743 C 0.4691 0.08881 0.46667 0.05042 0.46667 0.01365 E">
                                      <p:cBhvr>
                                        <p:cTn id="45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2312 -0.00035 0.05065 -0.00573 0.07331 C -0.00625 0.08349 -0.00556 0.09412 -0.00729 0.10407 C -0.00799 0.10846 -0.02517 0.11309 -0.0276 0.11378 C -0.03524 0.11309 -0.04306 0.11309 -0.05069 0.11193 C -0.06024 0.11054 -0.06997 0.10407 -0.07969 0.10222 C -0.08281 0.09597 -0.08681 0.09112 -0.08993 0.08487 C -0.10347 0.02844 -0.09271 0.07724 -0.09271 -0.06776 E">
                                      <p:cBhvr>
                                        <p:cTn id="46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809 -0.00434 0.02498 -0.00434 0.02498 C -0.00278 0.03469 -0.00035 0.04417 0.00156 0.05389 C 0.00104 0.06152 0.00122 0.06938 0 0.07701 C -0.00156 0.08811 -0.01528 0.09043 -0.0217 0.09251 C -0.08021 0.09181 -0.14826 0.13159 -0.19705 0.08881 C -0.20208 0.08441 -0.20347 0.07771 -0.20868 0.07331 C -0.21146 0.06753 -0.21285 0.06244 -0.21441 0.05597 C -0.21285 0.02891 -0.21302 0.03908 -0.21302 0.02498 E">
                                      <p:cBhvr>
                                        <p:cTn id="48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1156 0.0092 -0.03284 0.01979 -0.04302 C 0.03177 -0.05435 0.04636 -0.05689 0.0592 -0.06545 C 0.06407 -0.07239 0.06823 -0.07932 0.07327 -0.08626 C 0.07639 -0.09043 0.07726 -0.09713 0.08039 -0.10129 C 0.0908 -0.11517 0.1007 -0.12835 0.11407 -0.13691 C 0.11945 -0.14038 0.13021 -0.14015 0.13386 -0.14061 C 0.13629 -0.14246 0.13837 -0.14477 0.14098 -0.14616 C 0.14271 -0.14709 0.14479 -0.14685 0.14653 -0.14801 C 0.14775 -0.14894 0.14827 -0.15102 0.14931 -0.15194 C 0.15295 -0.15541 0.15677 -0.15819 0.16059 -0.16119 C 0.17049 -0.16929 0.1783 -0.18062 0.18872 -0.18756 C 0.19358 -0.19658 0.19948 -0.20236 0.20712 -0.20629 C 0.21337 -0.21462 0.23073 -0.22664 0.23941 -0.23057 C 0.2467 -0.24029 0.25539 -0.24237 0.26493 -0.24561 C 0.26962 -0.24722 0.279 -0.24954 0.279 -0.24954 C 0.28507 -0.2537 0.29132 -0.25416 0.29723 -0.25879 C 0.30729 -0.26688 0.31927 -0.27706 0.33108 -0.27937 C 0.33611 -0.2803 0.34132 -0.28053 0.34653 -0.28122 C 0.34983 -0.28168 0.35313 -0.28261 0.35643 -0.2833 C 0.36459 -0.28862 0.37379 -0.28908 0.38177 -0.2944 C 0.3882 -0.2988 0.39306 -0.30412 0.4 -0.30759 C 0.41077 -0.3129 0.42414 -0.31383 0.43525 -0.31499 C 0.43664 -0.31568 0.43802 -0.31614 0.43941 -0.31707 C 0.44098 -0.31799 0.44219 -0.31984 0.44375 -0.32077 C 0.45486 -0.32724 0.44948 -0.32123 0.45365 -0.32632 E">
                                      <p:cBhvr>
                                        <p:cTn id="53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03 0.00469 -0.00624 0.00712 -0.00925 C 0.00816 -0.01064 0.00764 -0.01341 0.00851 -0.01503 C 0.00955 -0.01711 0.01111 -0.01896 0.01268 -0.02058 C 0.01528 -0.02336 0.0184 -0.02544 0.02118 -0.02798 C 0.02535 -0.03168 0.02778 -0.03908 0.03247 -0.04116 C 0.05747 -0.05203 0.06233 -0.05249 0.09306 -0.05435 C 0.10834 -0.06105 0.12483 -0.06521 0.14097 -0.06753 C 0.14948 -0.07123 0.15608 -0.074 0.16354 -0.08071 C 0.17136 -0.09644 0.16077 -0.07655 0.17049 -0.08996 C 0.17639 -0.09805 0.18247 -0.11332 0.18889 -0.12002 C 0.19011 -0.12118 0.19167 -0.12095 0.19306 -0.12188 C 0.204 -0.12904 0.20104 -0.12928 0.21563 -0.13136 C 0.22327 -0.1339 0.22969 -0.13598 0.23663 -0.14061 C 0.2415 -0.14385 0.24809 -0.15171 0.25365 -0.15194 C 0.2757 -0.1531 0.29775 -0.1531 0.31979 -0.15379 C 0.32361 -0.15726 0.32691 -0.16235 0.33108 -0.16512 C 0.33993 -0.17137 0.35382 -0.17252 0.36354 -0.17437 C 0.37587 -0.18085 0.38507 -0.18385 0.39861 -0.1857 C 0.41215 -0.19149 0.42691 -0.18825 0.44097 -0.19126 C 0.44792 -0.19588 0.45712 -0.20259 0.46493 -0.20259 E">
                                      <p:cBhvr>
                                        <p:cTn id="53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37 0.00468 -0.00694 0.00555 -0.01133 C 0.00607 -0.01387 0.00607 -0.01665 0.00711 -0.01896 C 0.01111 -0.02821 0.01996 -0.03191 0.02673 -0.03769 C 0.03229 -0.04232 0.04514 -0.04695 0.04514 -0.04695 C 0.04705 -0.05111 0.05017 -0.05411 0.05208 -0.05828 C 0.06024 -0.07585 0.05034 -0.06152 0.05781 -0.07146 C 0.06093 -0.08395 0.06041 -0.08302 0.06753 -0.09019 C 0.06857 -0.09158 0.06927 -0.0932 0.07048 -0.09412 C 0.07222 -0.09505 0.07413 -0.09505 0.07604 -0.09597 C 0.07882 -0.0969 0.08455 -0.09944 0.08455 -0.09944 C 0.08958 -0.10407 0.09479 -0.10707 0.1 -0.11078 C 0.10868 -0.11725 0.1151 -0.12488 0.12257 -0.13321 C 0.12673 -0.13783 0.13003 -0.14408 0.13385 -0.14847 C 0.13645 -0.15125 0.14218 -0.15587 0.14218 -0.15587 C 0.15208 -0.17437 0.15885 -0.17437 0.17048 -0.18964 C 0.17673 -0.19796 0.18298 -0.20652 0.19149 -0.21022 C 0.19409 -0.21369 0.19739 -0.21623 0.2 -0.2197 C 0.20694 -0.22918 0.21145 -0.23959 0.21979 -0.24769 C 0.22257 -0.26318 0.21892 -0.24769 0.22534 -0.26272 C 0.23142 -0.27706 0.23611 -0.29579 0.2493 -0.30018 C 0.26545 -0.31152 0.2835 -0.31522 0.30139 -0.31915 C 0.31319 -0.32169 0.32482 -0.324 0.33663 -0.32655 C 0.33889 -0.32701 0.34132 -0.32747 0.34357 -0.3284 C 0.34652 -0.32932 0.35208 -0.3321 0.35208 -0.3321 C 0.35642 -0.33811 0.36041 -0.33765 0.36614 -0.34343 C 0.36979 -0.358 0.36441 -0.34112 0.37187 -0.35106 C 0.37378 -0.35361 0.3743 -0.35754 0.37604 -0.36031 C 0.37708 -0.36193 0.37899 -0.36263 0.3802 -0.36401 C 0.38663 -0.37164 0.39166 -0.37905 0.4 -0.38275 C 0.40816 -0.39038 0.41718 -0.39454 0.42673 -0.39778 C 0.43368 -0.40263 0.44045 -0.40263 0.44791 -0.40541 C 0.4526 -0.40726 0.4559 -0.41073 0.46059 -0.41281 C 0.46562 -0.4172 0.46475 -0.4142 0.46475 -0.42044 E">
                                      <p:cBhvr>
                                        <p:cTn id="54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0439 -0.00157 0.00208 0.00711 -0.00948 C 0.00902 -0.01202 0.0118 -0.01295 0.01406 -0.01503 C 0.02274 -0.02359 0.02274 -0.02521 0.03385 -0.02821 C 0.04375 -0.03492 0.05381 -0.03515 0.06475 -0.03746 C 0.07118 -0.04186 0.07691 -0.04787 0.08316 -0.0525 C 0.08593 -0.05458 0.09218 -0.05527 0.09444 -0.0562 C 0.10017 -0.05828 0.09791 -0.05897 0.10416 -0.06198 C 0.11197 -0.06568 0.12031 -0.06776 0.12812 -0.07123 C 0.13177 -0.07608 0.14027 -0.08418 0.14513 -0.08626 C 0.14965 -0.09435 0.15208 -0.10222 0.15642 -0.11077 C 0.15816 -0.11771 0.15781 -0.12604 0.16197 -0.13136 C 0.1776 -0.15171 0.21059 -0.14731 0.22812 -0.14824 C 0.23454 -0.1524 0.24253 -0.16027 0.2493 -0.16327 C 0.25486 -0.16905 0.26093 -0.17391 0.26614 -0.18015 C 0.2717 -0.18663 0.27569 -0.19565 0.28177 -0.20074 C 0.28958 -0.21392 0.29982 -0.22201 0.31128 -0.22895 C 0.31649 -0.23196 0.32118 -0.23751 0.32673 -0.2382 C 0.33663 -0.23936 0.34652 -0.23959 0.35642 -0.24028 C 0.37048 -0.24954 0.37951 -0.2567 0.39583 -0.25902 C 0.41041 -0.26549 0.41128 -0.2648 0.42951 -0.26642 C 0.43715 -0.2685 0.44444 -0.27058 0.45208 -0.27197 C 0.4585 -0.27497 0.4618 -0.28145 0.4677 -0.28515 E">
                                      <p:cBhvr>
                                        <p:cTn id="54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0416 0.00608 -0.00786 0.0099 -0.01133 C 0.01337 -0.02498 0.00834 -0.00809 0.01563 -0.02243 C 0.01945 -0.03006 0.01667 -0.03168 0.02535 -0.03562 C 0.04028 -0.05065 0.04532 -0.04903 0.06493 -0.05065 C 0.07257 -0.05412 0.07882 -0.05967 0.08594 -0.06383 C 0.09601 -0.06961 0.10608 -0.07007 0.11702 -0.07123 C 0.125 -0.07516 0.13073 -0.07909 0.13941 -0.08071 C 0.15104 -0.0858 0.14497 -0.08395 0.15782 -0.08626 C 0.17101 -0.09204 0.19184 -0.08141 0.20434 -0.07331 C 0.22726 -0.0784 0.19757 -0.07239 0.24792 -0.07701 C 0.25851 -0.07794 0.26979 -0.08395 0.28039 -0.08626 C 0.29184 -0.09436 0.29445 -0.09898 0.30712 -0.1013 C 0.32257 -0.10823 0.34098 -0.10407 0.35643 -0.10315 C 0.379 -0.08811 0.3882 -0.08788 0.41563 -0.08626 C 0.43073 -0.08418 0.44809 -0.08441 0.46198 -0.07516 E">
                                      <p:cBhvr>
                                        <p:cTn id="54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70c0"/>
                </a:solidFill>
                <a:uFillTx/>
                <a:latin typeface="Times New Roman"/>
              </a:rPr>
              <a:t>Group 2: Seedless, Vascular Pl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ascular system a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Taller grow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Nutrient transpor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ve in moist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wimming sp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ametophyte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Male gametophyte: makes sp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Female gametophyte: makes eg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erm swims to fertilize eg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orophyte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ores released into ai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ores land and grow into gametoph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: Ferns, Club mosses, Hors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9" descr="Ferns can be found the floors of both tropical and temperate rainforests."/>
          <p:cNvPicPr/>
          <p:nvPr/>
        </p:nvPicPr>
        <p:blipFill>
          <a:blip r:embed="rId1"/>
          <a:stretch/>
        </p:blipFill>
        <p:spPr>
          <a:xfrm>
            <a:off x="0" y="1676520"/>
            <a:ext cx="5105520" cy="5105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sori004"/>
          <p:cNvPicPr/>
          <p:nvPr/>
        </p:nvPicPr>
        <p:blipFill>
          <a:blip r:embed="rId2"/>
          <a:stretch/>
        </p:blipFill>
        <p:spPr>
          <a:xfrm>
            <a:off x="0" y="1752480"/>
            <a:ext cx="5048280" cy="426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lant_fern2_240"/>
          <p:cNvPicPr/>
          <p:nvPr/>
        </p:nvPicPr>
        <p:blipFill>
          <a:blip r:embed="rId3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n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http://www.tqnyc.org/NYC063206/ferns.jpg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55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botany.hawaii.edu/faculty/webb/bot311/bot311-00/CellTissOrgan/FernRhizomeFrondColrLab300.jpg"/>
          <p:cNvPicPr/>
          <p:nvPr/>
        </p:nvPicPr>
        <p:blipFill>
          <a:blip r:embed="rId1"/>
          <a:stretch/>
        </p:blipFill>
        <p:spPr>
          <a:xfrm>
            <a:off x="762120" y="3286080"/>
            <a:ext cx="2819160" cy="35719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295280" y="3276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219320" y="3809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143000" y="3505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914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 Sporophyte creates and releases haploid sp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-457200" y="6095880"/>
            <a:ext cx="9982080" cy="7621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10"/>
          <p:cNvSpPr/>
          <p:nvPr/>
        </p:nvSpPr>
        <p:spPr>
          <a:xfrm>
            <a:off x="533520" y="3124080"/>
            <a:ext cx="304560" cy="10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91027E-006 C 0.01094 -0.01387 0.01736 -0.03168 0.02535 -0.04856 C 0.0316 -0.06197 0.03247 -0.05758 0.03958 -0.06937 C 0.04618 -0.08047 0.04063 -0.07816 0.0507 -0.08625 C 0.05625 -0.09088 0.06424 -0.09458 0.07049 -0.09736 C 0.09948 -0.09227 0.11684 -0.09273 0.14792 -0.09551 C 0.15972 -0.09897 0.18785 -0.10637 0.19861 -0.11424 C 0.21545 -0.1265 0.23368 -0.13459 0.2507 -0.14615 C 0.2592 -0.15193 0.26615 -0.16165 0.27465 -0.16697 C 0.2908 -0.17691 0.30955 -0.17807 0.32691 -0.17992 C 0.35695 -0.18686 0.38663 -0.18801 0.41702 -0.1894 C 0.43837 -0.19726 0.46615 -0.21068 0.48038 -0.2345 C 0.48611 -0.24421 0.49219 -0.25369 0.49722 -0.26433 C 0.50712 -0.28538 0.51267 -0.31105 0.52969 -0.32446 C 0.54132 -0.33348 0.54583 -0.33255 0.56198 -0.33764 C 0.60035 -0.3499 0.55434 -0.34527 0.59445 -0.35267 C 0.60573 -0.35476 0.6283 -0.35637 0.6283 -0.35637 C 0.64288 -0.35984 0.65729 -0.36447 0.67188 -0.36771 C 0.68177 -0.37279 0.6908 -0.37696 0.70156 -0.37881 C 0.71424 -0.38112 0.73958 -0.38459 0.73958 -0.38459 C 0.77309 -0.39939 0.80573 -0.41442 0.84097 -0.4202 C 0.85017 -0.42622 0.85903 -0.43385 0.8691 -0.43709 C 0.88472 -0.44218 0.87969 -0.43616 0.88455 -0.44264 E">
                                      <p:cBhvr>
                                        <p:cTn id="64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12303E-007 C 0.00364 -0.00601 0.00607 -0.01295 0.00989 -0.01873 C 0.01146 -0.02105 0.01371 -0.0222 0.01545 -0.02428 C 0.0276 -0.03885 0.03055 -0.04232 0.04791 -0.04695 C 0.07916 -0.04556 0.10972 -0.04278 0.1408 -0.03932 C 0.15677 -0.0407 0.17291 -0.04047 0.18871 -0.04325 C 0.20173 -0.04556 0.23368 -0.06082 0.24635 -0.06753 C 0.25607 -0.07262 0.26302 -0.08117 0.27326 -0.08441 C 0.29479 -0.10153 0.32048 -0.10708 0.34219 -0.12373 C 0.38194 -0.15449 0.4191 -0.18964 0.46458 -0.20444 C 0.4835 -0.21045 0.50312 -0.2086 0.52257 -0.21022 C 0.53125 -0.21161 0.54028 -0.21184 0.5493 -0.21392 C 0.55972 -0.21647 0.57257 -0.22664 0.5816 -0.23265 C 0.59496 -0.24167 0.60885 -0.24931 0.62257 -0.25694 C 0.62569 -0.25879 0.62795 -0.26249 0.6309 -0.26457 C 0.65972 -0.284 0.69323 -0.29047 0.72396 -0.30389 C 0.73472 -0.31337 0.76198 -0.31799 0.77465 -0.32077 C 0.78385 -0.32285 0.79132 -0.3284 0.8 -0.3321 C 0.81528 -0.34574 0.83177 -0.3506 0.8493 -0.35638 C 0.86232 -0.355 0.87361 -0.35245 0.88594 -0.34713 C 0.88785 -0.34783 0.88941 -0.34829 0.89149 -0.34898 C 0.89427 -0.35014 0.9 -0.35268 0.9 -0.35268 E">
                                      <p:cBhvr>
                                        <p:cTn id="64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7.12303E-007 C 0.01111 -0.00971 0.01822 -0.02567 0.02812 -0.03747 C 0.03541 -0.04602 0.04305 -0.05412 0.05069 -0.06198 C 0.05711 -0.06846 0.0644 -0.07354 0.07048 -0.08071 C 0.08871 -0.10176 0.10746 -0.12627 0.12256 -0.15194 C 0.12534 -0.16697 0.12222 -0.15356 0.1309 -0.17438 C 0.14027 -0.19704 0.15052 -0.21693 0.16336 -0.23636 C 0.16996 -0.2463 0.1769 -0.25601 0.18315 -0.26642 C 0.19114 -0.27937 0.18611 -0.27683 0.19583 -0.28885 C 0.20937 -0.30574 0.22534 -0.30782 0.24079 -0.31892 C 0.2717 -0.34135 0.30225 -0.36586 0.33385 -0.38645 C 0.35243 -0.42068 0.37274 -0.41767 0.39999 -0.42969 C 0.4151 -0.4364 0.42986 -0.44241 0.44513 -0.44843 C 0.46215 -0.4549 0.46232 -0.46253 0.48593 -0.46531 C 0.51857 -0.46924 0.49618 -0.46693 0.55347 -0.46901 C 0.58263 -0.46554 0.61128 -0.45999 0.6394 -0.44843 C 0.64861 -0.44473 0.65381 -0.43918 0.66336 -0.4371 C 0.67083 -0.43224 0.67812 -0.42553 0.68593 -0.42206 C 0.68958 -0.42044 0.69722 -0.41836 0.69722 -0.41836 C 0.71961 -0.40356 0.74635 -0.40634 0.77048 -0.40518 C 0.81423 -0.40865 0.85781 -0.41258 0.90138 -0.41836 C 0.90624 -0.42484 0.91354 -0.43039 0.91961 -0.43525 C 0.92135 -0.43663 0.92343 -0.43779 0.92534 -0.43895 C 0.92812 -0.44033 0.93385 -0.44288 0.93385 -0.44288 C 0.93524 -0.44473 0.93802 -0.44843 0.93802 -0.44843 E">
                                      <p:cBhvr>
                                        <p:cTn id="651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48566E-006 C 0.00815 -0.01088 0.00086 -5.48565999999862E-006 0.00972 -0.02059 C 0.0177 -0.03909 0.02708 -0.05667 0.03524 -0.07494 C 0.05017 -0.10801 0.07117 -0.13622 0.09149 -0.16305 C 0.09635 -0.16953 0.09843 -0.17878 0.10277 -0.18571 C 0.10798 -0.19381 0.11232 -0.20283 0.11822 -0.21 C 0.12986 -0.22387 0.14305 -0.23798 0.15347 -0.25324 C 0.16753 -0.27383 0.16944 -0.28377 0.18871 -0.29626 C 0.19861 -0.2951 0.2085 -0.2951 0.21822 -0.29256 C 0.23211 -0.28886 0.24392 -0.27082 0.25763 -0.26458 C 0.27378 -0.25741 0.2809 -0.25995 0.30138 -0.2588 C 0.31822 -0.25995 0.33524 -0.26041 0.35208 -0.2625 C 0.3618 -0.26365 0.37065 -0.27244 0.3802 -0.27568 C 0.39097 -0.27938 0.40208 -0.281 0.41267 -0.28516 C 0.44374 -0.29719 0.47204 -0.31615 0.50416 -0.32448 C 0.51649 -0.32309 0.52725 -0.31939 0.5394 -0.31707 C 0.55347 -0.31152 0.56683 -0.30343 0.58159 -0.30019 C 0.61215 -0.30204 0.6427 -0.30227 0.67326 -0.30574 C 0.68003 -0.30644 0.6842 -0.31661 0.6901 -0.32077 C 0.71006 -0.33488 0.69288 -0.31684 0.71267 -0.33396 C 0.72673 -0.34598 0.73558 -0.37003 0.74635 -0.38645 C 0.75711 -0.40287 0.76944 -0.41721 0.77881 -0.43525 C 0.78385 -0.44497 0.78663 -0.45699 0.79288 -0.46532 C 0.80277 -0.4785 0.81406 -0.4896 0.82395 -0.50278 C 0.83159 -0.51296 0.84045 -0.52799 0.8493 -0.53655 C 0.85607 -0.55019 0.87048 -0.54811 0.88159 -0.54973 C 0.93576 -0.55713 0.89774 -0.55042 0.92395 -0.55528 C 0.93003 -0.55852 0.93229 -0.55782 0.93229 -0.56661 E">
                                      <p:cBhvr>
                                        <p:cTn id="65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22:07:40Z</dcterms:created>
  <dc:creator>EBHS</dc:creator>
  <dc:description/>
  <dc:language>en-US</dc:language>
  <cp:lastModifiedBy>kkobe</cp:lastModifiedBy>
  <dcterms:modified xsi:type="dcterms:W3CDTF">2011-06-07T18:13:44Z</dcterms:modified>
  <cp:revision>98</cp:revision>
  <dc:subject/>
  <dc:title>PowerPoint Presentation</dc:title>
</cp:coreProperties>
</file>